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7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_rels/notesSlide150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67.xml.rels" ContentType="application/vnd.openxmlformats-package.relationships+xml"/>
  <Override PartName="/ppt/notesSlides/notesSlide89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15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9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120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52.xml.rels" ContentType="application/vnd.openxmlformats-package.relationships+xml"/>
  <Override PartName="/ppt/slides/_rels/slide157.xml.rels" ContentType="application/vnd.openxmlformats-package.relationships+xml"/>
  <Override PartName="/ppt/slides/_rels/slide156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77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67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3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0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66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60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43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DA82-32A4-4527-958A-865037224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enopause part-of aging, aging part-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 searching is one of the important kinds of reasoning we want to e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3FAC-D223-4EF8-9DEA-DC76F6B21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yuri.lbl.gov/amigo/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example: ‘chromosome’ in Sequence Ontology and in Cell Component Ontology means differen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solution: two distinct terms involved (qualified by respective namespa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species called ‘non-rabbi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biological species: unknown rabbit. See discussion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AC84-17B0-4120-BADC-0E276DDE0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325760"/>
            <a:ext cx="8458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15A7-2D52-4E28-A672-EBB793856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32576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432576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9959D-64C2-4A1B-AAF1-99D160ED1A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205704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205704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32576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432576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4325760"/>
            <a:ext cx="272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10F5C-AA5C-47DA-AEDD-B530725D28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EC27B-61CB-427D-9A82-908DEADBF1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799B-3FEF-4DD2-9C25-8A8A99C158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27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2057040"/>
            <a:ext cx="4127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F8E74-30F7-4998-BCBC-D3E0DC01D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83625-EF8D-4EF0-AD7B-A3E37D1B5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91404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7A39C-28EA-4D6A-BB54-DF54D659A0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2057040"/>
            <a:ext cx="4127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32576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487BC-A490-4A7C-AADD-910356D5FC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27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432576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24D1-5385-494F-AE5C-550A90F7E6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2057040"/>
            <a:ext cx="4127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325760"/>
            <a:ext cx="8458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3EDB-6C49-43AC-A7BA-C05B66A49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63120" y="6553080"/>
            <a:ext cx="380880" cy="3049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543440" y="6552720"/>
            <a:ext cx="1600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2"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lvl="2"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63F7-6759-4D08-A9FC-379908098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hyperlink" Target="http://obi.sourceforge.net/" TargetMode="External"/><Relationship Id="rId2" Type="http://schemas.openxmlformats.org/officeDocument/2006/relationships/hyperlink" Target="http://obofoundry.org/" TargetMode="External"/><Relationship Id="rId3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to Build an Ont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3300120"/>
            <a:ext cx="845820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y Sm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ontology.buffalo.edu/sm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2A66B-F74C-4BD7-BB37-ABC4E063F75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ntological Squ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80880" y="2057400"/>
          <a:ext cx="8458200" cy="42670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-level integrating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2AE83-926C-407F-B7D4-324B688152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do we need rules/standards for good onto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520" y="2206800"/>
            <a:ext cx="84582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tologies must be intelligible both to humans (for annotation and curation) and to machines (for reasoning and error-checking): the lack of rules for classification leads to human error and blocks automatic reasoning and error-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uitive rules facilitate training of curators and annot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rules allow alignment with other ontolo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E11E-B90F-4A91-98B6-2DE191F45C0C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79215"/>
                </a:srgbClr>
              </a:gs>
              <a:gs pos="50000">
                <a:srgbClr val="333399"/>
              </a:gs>
              <a:gs pos="100000">
                <a:srgbClr val="000000">
                  <a:alpha val="7921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ies are legends for carto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534160" cy="711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76672-836D-407E-A9F3-FBA7F2B59F48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ndomized controlled tr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rctbank.ucsf.edu/ontology/outline/index.ht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3BA0E-6EA7-409E-80AE-1C9D7E8C739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-detai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6FE0-D05B-4854-940E-3CD093345CE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al Detai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o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ial-detail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at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ation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ial-entry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ministrative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ary-administrative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mary-administrative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ecuted-administrative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nded-administrative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ckground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nded-background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ecuted-background-detai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pping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traction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rection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aud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2019-06BC-44C6-BB92-A858B3B757FD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p-Most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-detai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4649-8140-41C3-892D-EA3752582D3D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m-in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-ent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le-conce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tu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gro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ruitment-flow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ruit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te-enroll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-up-compli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-up-ac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-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ocol-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eatment-assig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oc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comes-follow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ary-study-protoc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B1F7-65E0-40F4-9E8B-ED02605D47E5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380520" y="6984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vival-analysis-and-res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istical-analysis-and-res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ple-size-calc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ial-desig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ypothesis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-objec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-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ression-analysis-and-resul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opping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come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l-variable-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scellaneous-outcome-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-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value-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E224B-D663-4DDD-9CC5-335E2050DF0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blication-conce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y-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h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y-committ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tit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gistry-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linding-concep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iance-detai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vention-ste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vention-ar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interv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v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iance-resul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vention-log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FB8F-D546-4525-934E-91B0ABE7C06C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-detai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CEDCC-D2D7-4873-B907-568BA062648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ntological Squ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80880" y="2057400"/>
          <a:ext cx="8458200" cy="42768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-level integrating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ologies in support of sc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ve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08AF-0293-47AC-AAB5-2ABD11060F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he top level should look 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EAE0-D381-4B1E-9029-BC33945FED2E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kinds of ent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74320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ccurrent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rocesses, events, happening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inuan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objects, qualities, states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5A953-5A37-4813-91D9-E9EC9B74AEF9}" type="slidenum">
              <a:t>111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Continuants (aka endura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ave continuous existence i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reserve their identity through ch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xist </a:t>
            </a:r>
            <a:r>
              <a:rPr b="0" i="1" lang="de-DE" sz="3200" spc="-1" strike="noStrike">
                <a:solidFill>
                  <a:srgbClr val="ffffff"/>
                </a:solidFill>
                <a:latin typeface="Arial"/>
              </a:rPr>
              <a:t>in toto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whenever they exist at 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Occurrents (aka process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ave temporal p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unfold themselves in successive ph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st only in their ph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A328-9E3B-44F2-9239-6A55A59C1E06}" type="slidenum">
              <a:t>112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are a continua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91440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if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an occurr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re 3-dimensi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if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s 4-dimension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3C354-E875-492F-9E6C-64993C987308}" type="slidenum">
              <a:t>113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pendent ent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2362320"/>
            <a:ext cx="8229600" cy="32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quire independent continuants as their bear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run without a run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grin without a c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30E3-F293-4D06-B9D1-13863C95EC5C}" type="slidenum">
              <a:t>114</a:t>
            </a:fld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ent vs. independent continua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03160" y="2142720"/>
            <a:ext cx="8035920" cy="39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pendent continuants (organisms, buildings, environm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endent continuants (quality, shape, role, propensity, function, status, power, r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C6948-E934-423E-9C76-0467D9CBDB91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occurrents are dependent ent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80520" y="2571840"/>
            <a:ext cx="84582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are dependent on those independent continuants which are their participants (agents, patients, media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CE79-7264-405F-945C-9EDA6BE46CBA}" type="slidenum">
              <a:t>11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6858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FO Top-Level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143000" y="16002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562720" y="1606680"/>
            <a:ext cx="2692440" cy="1898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c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lways depen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one or 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6320" y="3429000"/>
            <a:ext cx="21333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631960" y="3429000"/>
            <a:ext cx="1752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8" name=""/>
          <p:cNvCxnSpPr>
            <a:stCxn id="494" idx="2"/>
            <a:endCxn id="496" idx="0"/>
          </p:cNvCxnSpPr>
          <p:nvPr/>
        </p:nvCxnSpPr>
        <p:spPr>
          <a:xfrm flipH="1">
            <a:off x="1142640" y="2895480"/>
            <a:ext cx="13723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94" idx="2"/>
            <a:endCxn id="497" idx="0"/>
          </p:cNvCxnSpPr>
          <p:nvPr/>
        </p:nvCxnSpPr>
        <p:spPr>
          <a:xfrm>
            <a:off x="2514600" y="2895480"/>
            <a:ext cx="99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0" name=""/>
          <p:cNvSpPr/>
          <p:nvPr/>
        </p:nvSpPr>
        <p:spPr>
          <a:xfrm>
            <a:off x="4952880" y="1219320"/>
            <a:ext cx="0" cy="5029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9A2C-934A-4CFF-BFE8-B70F808C919E}" type="slidenum">
              <a:t>117</a:t>
            </a:fld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= A representation of top-level typ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143000" y="16002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562720" y="1606680"/>
            <a:ext cx="2692440" cy="128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c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6320" y="3429000"/>
            <a:ext cx="21333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200400" y="34290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6" name=""/>
          <p:cNvCxnSpPr>
            <a:stCxn id="502" idx="2"/>
            <a:endCxn id="504" idx="0"/>
          </p:cNvCxnSpPr>
          <p:nvPr/>
        </p:nvCxnSpPr>
        <p:spPr>
          <a:xfrm flipH="1">
            <a:off x="1142640" y="2895480"/>
            <a:ext cx="13723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502" idx="2"/>
            <a:endCxn id="505" idx="0"/>
          </p:cNvCxnSpPr>
          <p:nvPr/>
        </p:nvCxnSpPr>
        <p:spPr>
          <a:xfrm>
            <a:off x="2514240" y="2895480"/>
            <a:ext cx="1562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8" name=""/>
          <p:cNvSpPr/>
          <p:nvPr/>
        </p:nvSpPr>
        <p:spPr>
          <a:xfrm>
            <a:off x="-47520" y="45370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ell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549760" y="302904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717640" y="4543560"/>
            <a:ext cx="267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1C161-59E2-4DD7-AC0B-001B8E821DF2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6858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-Level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143000" y="16002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562720" y="1606680"/>
            <a:ext cx="2692440" cy="128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c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6320" y="3429000"/>
            <a:ext cx="21333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631960" y="3429000"/>
            <a:ext cx="1752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572000" y="5029200"/>
            <a:ext cx="21337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162920" y="3429000"/>
            <a:ext cx="19047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de-Effec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chas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8" name=""/>
          <p:cNvCxnSpPr>
            <a:stCxn id="512" idx="2"/>
            <a:endCxn id="514" idx="0"/>
          </p:cNvCxnSpPr>
          <p:nvPr/>
        </p:nvCxnSpPr>
        <p:spPr>
          <a:xfrm flipH="1">
            <a:off x="1142640" y="2895480"/>
            <a:ext cx="13723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9" name=""/>
          <p:cNvCxnSpPr>
            <a:stCxn id="512" idx="2"/>
            <a:endCxn id="515" idx="0"/>
          </p:cNvCxnSpPr>
          <p:nvPr/>
        </p:nvCxnSpPr>
        <p:spPr>
          <a:xfrm>
            <a:off x="2514600" y="2895480"/>
            <a:ext cx="99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3" idx="2"/>
            <a:endCxn id="516" idx="0"/>
          </p:cNvCxnSpPr>
          <p:nvPr/>
        </p:nvCxnSpPr>
        <p:spPr>
          <a:xfrm flipH="1">
            <a:off x="5638320" y="2895120"/>
            <a:ext cx="1270800" cy="213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stCxn id="513" idx="2"/>
            <a:endCxn id="517" idx="0"/>
          </p:cNvCxnSpPr>
          <p:nvPr/>
        </p:nvCxnSpPr>
        <p:spPr>
          <a:xfrm>
            <a:off x="6908760" y="2895480"/>
            <a:ext cx="1207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2" name=""/>
          <p:cNvSpPr/>
          <p:nvPr/>
        </p:nvSpPr>
        <p:spPr>
          <a:xfrm>
            <a:off x="2511360" y="5041800"/>
            <a:ext cx="1679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3" name=""/>
          <p:cNvCxnSpPr>
            <a:stCxn id="522" idx="0"/>
            <a:endCxn id="515" idx="2"/>
          </p:cNvCxnSpPr>
          <p:nvPr/>
        </p:nvCxnSpPr>
        <p:spPr>
          <a:xfrm flipV="1">
            <a:off x="3351240" y="4419360"/>
            <a:ext cx="157680" cy="622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F58F8-C675-4877-8DB7-059124CB4114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ntological Squ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80880" y="2057400"/>
          <a:ext cx="8458200" cy="461808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per-level integrating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main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ologies in support of sc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BFO (Basic Formal Ontolog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DOL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NOM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wissPr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F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ve ontologies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for e-commerce, etc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FOAF top leve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person, topic, document, primary topic 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Amazon.com ont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Library of Congress Cata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FE78-142C-4E50-B5B4-41493F43FC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-Level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143000" y="1600200"/>
            <a:ext cx="27432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562720" y="1606680"/>
            <a:ext cx="2692440" cy="128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c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6320" y="3429000"/>
            <a:ext cx="21333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631960" y="3429000"/>
            <a:ext cx="1752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791240" y="3429000"/>
            <a:ext cx="21333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162920" y="3429000"/>
            <a:ext cx="19047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de-Effec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chast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1" name=""/>
          <p:cNvCxnSpPr>
            <a:stCxn id="525" idx="2"/>
            <a:endCxn id="527" idx="0"/>
          </p:cNvCxnSpPr>
          <p:nvPr/>
        </p:nvCxnSpPr>
        <p:spPr>
          <a:xfrm flipH="1">
            <a:off x="1142640" y="2895480"/>
            <a:ext cx="13723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2" name=""/>
          <p:cNvCxnSpPr>
            <a:stCxn id="525" idx="2"/>
            <a:endCxn id="528" idx="0"/>
          </p:cNvCxnSpPr>
          <p:nvPr/>
        </p:nvCxnSpPr>
        <p:spPr>
          <a:xfrm>
            <a:off x="2514600" y="2895480"/>
            <a:ext cx="99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3" name=""/>
          <p:cNvCxnSpPr>
            <a:stCxn id="526" idx="2"/>
            <a:endCxn id="529" idx="0"/>
          </p:cNvCxnSpPr>
          <p:nvPr/>
        </p:nvCxnSpPr>
        <p:spPr>
          <a:xfrm flipH="1">
            <a:off x="5857200" y="2895480"/>
            <a:ext cx="10515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4" name=""/>
          <p:cNvCxnSpPr>
            <a:stCxn id="526" idx="2"/>
            <a:endCxn id="530" idx="0"/>
          </p:cNvCxnSpPr>
          <p:nvPr/>
        </p:nvCxnSpPr>
        <p:spPr>
          <a:xfrm>
            <a:off x="6908760" y="2895480"/>
            <a:ext cx="1207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5" name=""/>
          <p:cNvSpPr/>
          <p:nvPr/>
        </p:nvSpPr>
        <p:spPr>
          <a:xfrm>
            <a:off x="2511360" y="5041800"/>
            <a:ext cx="167976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6" name=""/>
          <p:cNvCxnSpPr>
            <a:stCxn id="535" idx="0"/>
            <a:endCxn id="528" idx="2"/>
          </p:cNvCxnSpPr>
          <p:nvPr/>
        </p:nvCxnSpPr>
        <p:spPr>
          <a:xfrm flipV="1">
            <a:off x="3351240" y="4419360"/>
            <a:ext cx="157680" cy="622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02198-FE19-4B78-B01E-9F22B2961FEB}" type="slidenum">
              <a:t>120</a:t>
            </a:fld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-Level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304920" y="1523880"/>
            <a:ext cx="8381520" cy="3657600"/>
            <a:chOff x="304920" y="1523880"/>
            <a:chExt cx="8381520" cy="3657600"/>
          </a:xfrm>
        </p:grpSpPr>
        <p:sp>
          <p:nvSpPr>
            <p:cNvPr id="539" name=""/>
            <p:cNvSpPr/>
            <p:nvPr/>
          </p:nvSpPr>
          <p:spPr>
            <a:xfrm>
              <a:off x="1299240" y="1523880"/>
              <a:ext cx="2557080" cy="106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ntinu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419080" y="1528920"/>
              <a:ext cx="2509920" cy="106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ccurr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920" y="3033000"/>
              <a:ext cx="1988640" cy="81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ndepen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ntinu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687040" y="3033000"/>
              <a:ext cx="1633680" cy="81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Depend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ontinu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1720" y="4353480"/>
              <a:ext cx="1562760" cy="81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Qua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74720" y="4363920"/>
              <a:ext cx="1565640" cy="81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Fun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323960" y="4356000"/>
              <a:ext cx="1491480" cy="8172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pat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eg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700160" y="3033000"/>
              <a:ext cx="1988640" cy="817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Function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910920" y="3033000"/>
              <a:ext cx="1775520" cy="1257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ide-Effect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ochasti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Process, 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8" name=""/>
            <p:cNvCxnSpPr>
              <a:stCxn id="539" idx="2"/>
              <a:endCxn id="541" idx="0"/>
            </p:cNvCxnSpPr>
            <p:nvPr/>
          </p:nvCxnSpPr>
          <p:spPr>
            <a:xfrm flipH="1">
              <a:off x="1298520" y="2592720"/>
              <a:ext cx="1279080" cy="44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49" name=""/>
            <p:cNvCxnSpPr>
              <a:stCxn id="539" idx="2"/>
              <a:endCxn id="542" idx="0"/>
            </p:cNvCxnSpPr>
            <p:nvPr/>
          </p:nvCxnSpPr>
          <p:spPr>
            <a:xfrm>
              <a:off x="2577600" y="2592720"/>
              <a:ext cx="926640" cy="44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0" name=""/>
            <p:cNvCxnSpPr>
              <a:stCxn id="540" idx="2"/>
              <a:endCxn id="546" idx="0"/>
            </p:cNvCxnSpPr>
            <p:nvPr/>
          </p:nvCxnSpPr>
          <p:spPr>
            <a:xfrm flipH="1">
              <a:off x="5693760" y="2592720"/>
              <a:ext cx="980280" cy="44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1" name=""/>
            <p:cNvCxnSpPr>
              <a:stCxn id="540" idx="2"/>
              <a:endCxn id="547" idx="0"/>
            </p:cNvCxnSpPr>
            <p:nvPr/>
          </p:nvCxnSpPr>
          <p:spPr>
            <a:xfrm>
              <a:off x="6674040" y="2592720"/>
              <a:ext cx="1125360" cy="440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2" name=""/>
            <p:cNvCxnSpPr>
              <a:stCxn id="542" idx="2"/>
              <a:endCxn id="543" idx="0"/>
            </p:cNvCxnSpPr>
            <p:nvPr/>
          </p:nvCxnSpPr>
          <p:spPr>
            <a:xfrm flipH="1">
              <a:off x="1582560" y="3850200"/>
              <a:ext cx="1921320" cy="50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3" name=""/>
            <p:cNvCxnSpPr>
              <a:stCxn id="542" idx="2"/>
              <a:endCxn id="544" idx="0"/>
            </p:cNvCxnSpPr>
            <p:nvPr/>
          </p:nvCxnSpPr>
          <p:spPr>
            <a:xfrm flipH="1">
              <a:off x="3357360" y="3850200"/>
              <a:ext cx="146880" cy="513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54" name=""/>
            <p:cNvCxnSpPr>
              <a:stCxn id="542" idx="2"/>
              <a:endCxn id="545" idx="0"/>
            </p:cNvCxnSpPr>
            <p:nvPr/>
          </p:nvCxnSpPr>
          <p:spPr>
            <a:xfrm>
              <a:off x="3503520" y="3850560"/>
              <a:ext cx="1566360" cy="506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555" name=""/>
          <p:cNvSpPr/>
          <p:nvPr/>
        </p:nvSpPr>
        <p:spPr>
          <a:xfrm>
            <a:off x="0" y="5486400"/>
            <a:ext cx="9448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457200" y="5791320"/>
            <a:ext cx="8137440" cy="215280"/>
            <a:chOff x="457200" y="5791320"/>
            <a:chExt cx="8137440" cy="215280"/>
          </a:xfrm>
        </p:grpSpPr>
        <p:sp>
          <p:nvSpPr>
            <p:cNvPr id="557" name=""/>
            <p:cNvSpPr/>
            <p:nvPr/>
          </p:nvSpPr>
          <p:spPr>
            <a:xfrm>
              <a:off x="457200" y="57913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7360" y="57913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82720" y="5794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095480" y="57974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324080" y="5794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539720" y="580032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739880" y="580032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965240" y="580356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78000" y="58068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454120" y="58165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54280" y="58165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79640" y="581940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092400" y="582264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321000" y="581940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65440" y="581004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765600" y="58100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0960" y="581328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03720" y="58165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32320" y="581328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648320" y="581940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48120" y="581940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073480" y="582264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86240" y="582588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62720" y="583524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762520" y="583524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98788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00640" y="58417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42924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721560" y="583848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2136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47080" y="58417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359480" y="584496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88080" y="58417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804080" y="584820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004240" y="5848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8229600" y="58514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442360" y="585432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1143000" y="594360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instances (in space and tim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A73D3-F004-4E80-863F-623F76861439}" type="slidenum">
              <a:t>121</a:t>
            </a:fld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rcRect l="0" t="17547" r="20396" b="0"/>
          <a:stretch/>
        </p:blipFill>
        <p:spPr>
          <a:xfrm>
            <a:off x="228600" y="-52560"/>
            <a:ext cx="8915400" cy="692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28EE1-16A1-4773-B52E-03087F3FF2E7}" type="slidenum">
              <a:t>122</a:t>
            </a:fld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rcRect l="8649" t="17547" r="3289" b="8771"/>
          <a:stretch/>
        </p:blipFill>
        <p:spPr>
          <a:xfrm>
            <a:off x="0" y="-152280"/>
            <a:ext cx="9144000" cy="57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4AD19-AEF7-4D28-B713-062D94A02C14}" type="slidenum">
              <a:t>123</a:t>
            </a:fld>
          </a:p>
        </p:txBody>
      </p:sp>
    </p:spTree>
  </p:cSld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TO will be part of OB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tology of Biomedical Investig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obi.sourceforge.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is in turn part of the OBO Found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bofoundry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956C-069A-4D92-8BDB-EEA3437125B1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rcRect l="0" t="36195" r="72502" b="40039"/>
          <a:stretch/>
        </p:blipFill>
        <p:spPr>
          <a:xfrm>
            <a:off x="762120" y="914400"/>
            <a:ext cx="5333760" cy="307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0C5C-4207-4828-A324-739F37716AA7}" type="slidenum">
              <a:t>125</a:t>
            </a:fld>
          </a:p>
        </p:txBody>
      </p:sp>
    </p:spTree>
  </p:cSld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rcRect l="0" t="26112" r="70805" b="38889"/>
          <a:stretch/>
        </p:blipFill>
        <p:spPr>
          <a:xfrm>
            <a:off x="0" y="0"/>
            <a:ext cx="8653320" cy="691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C31E-56D0-42BD-86E3-D5B613B7E5B4}" type="slidenum">
              <a:t>126</a:t>
            </a:fld>
          </a:p>
        </p:txBody>
      </p:sp>
    </p:spTree>
  </p:cSld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0" y="479520"/>
            <a:ext cx="9144000" cy="592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149A1-A89D-407F-BB49-47A399452ED2}" type="slidenum">
              <a:t>127</a:t>
            </a:fld>
          </a:p>
        </p:txBody>
      </p:sp>
    </p:spTree>
  </p:cSld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rcRect l="10698" t="2778" r="0" b="27778"/>
          <a:stretch/>
        </p:blipFill>
        <p:spPr>
          <a:xfrm>
            <a:off x="0" y="357120"/>
            <a:ext cx="9144000" cy="473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851B-1D22-4C32-8F11-4852FE3CB421}" type="slidenum">
              <a:t>128</a:t>
            </a:fld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0" y="479520"/>
            <a:ext cx="9144000" cy="592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B431C-50ED-4B2A-90F4-55611B1DDDCF}" type="slidenum">
              <a:t>129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152352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blem of ensuring sensible cooperation in a massively interdisciplinary commun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95480" y="3276720"/>
            <a:ext cx="5873760" cy="33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DC88-B509-427D-A8F1-F9162AE88A2C}" type="slidenum">
              <a:t>13</a:t>
            </a:fld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rcRect l="0" t="26391" r="57856" b="0"/>
          <a:stretch/>
        </p:blipFill>
        <p:spPr>
          <a:xfrm>
            <a:off x="490680" y="0"/>
            <a:ext cx="5895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14FFB-CB8E-4E6A-9D2A-AD00CE66A337}" type="slidenum">
              <a:t>130</a:t>
            </a:fld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0" y="479520"/>
            <a:ext cx="9144000" cy="592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EAA38-8E83-46D6-A5A6-CAF7F16E14F5}" type="slidenum">
              <a:t>131</a:t>
            </a:fld>
          </a:p>
        </p:txBody>
      </p:sp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-detai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29CB6-4093-4759-8466-6788E0363EB0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mended 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inu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curr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ary-stud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 Trial-detail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 Outcome-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 Administrative-concep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1881-915B-4822-87D1-1A776748A901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ic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-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-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le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lusion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lusion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le-ent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ursive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e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hnicity-language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e-gender-ru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0B67-2E1F-43A7-8B1B-7E7C0CB7960B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1"/>
          <a:srcRect l="23028" t="17547" r="7697" b="25161"/>
          <a:stretch/>
        </p:blipFill>
        <p:spPr>
          <a:xfrm>
            <a:off x="0" y="0"/>
            <a:ext cx="9448920" cy="5861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4F15-BC82-45DC-A9F4-8A5E8B5C6C18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rcRect l="23028" t="19299" r="8553" b="14038"/>
          <a:stretch/>
        </p:blipFill>
        <p:spPr>
          <a:xfrm>
            <a:off x="0" y="0"/>
            <a:ext cx="9144000" cy="668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34A5-3E7F-45DF-A68C-6F614228D82A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ocol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-up-compli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-up-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-cha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eatment-assig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utcomes-follow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ary-study-protoc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0E106-A181-4B63-8BE3-A19A06EDA0AF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mended 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ary-study-protoco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s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curr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eatment-assig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llow-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llow-up-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utcomes-follow-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ocol-ch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0D871-84CC-434C-970B-21EF1338D544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380520" y="304560"/>
            <a:ext cx="84582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bgro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ruitment-flowcha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p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rui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te-enroll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88614-F8B0-48D5-B9E7-BB46DCED9237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520" y="22093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ailPrice hasA Denomination InstanceOf Dollar (p. 10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-Unit instanceof System-of-Units (p. 40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80520" y="6854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Handbook of Ontology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emantic Web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a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37FB-1E6F-443B-8EA4-028FD61ED300}" type="slidenum">
              <a:t>14</a:t>
            </a:fld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mended Top-Level Class Hierarchy for R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inu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ary-study-protoco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cruitment-flowchar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s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bgro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cur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crui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ite-enroll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ment-assign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llow-u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llow-up-activ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comes-follow-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tocol-chan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0FF65-C538-4536-9FCB-2676E9ED2BEE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ve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ation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-si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thic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-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it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stry-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78572-C50E-465D-9AD3-04F573351874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inu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bl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istry-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-si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udy-committ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??Eth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3913-9E5D-4873-8802-DFECE3EF3E6E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ep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-concep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inding-conc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iance-detai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st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-inter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iance-resul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lo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20A8C-A78F-48B9-9EFC-99491989B7B1}" type="slidenum">
              <a:t>1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7631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ccur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st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ention-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-interven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? Intervention-log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? Compliance-resul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? Compliance-detai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A5B31-E9DC-4192-BF83-7814BF36F421}" type="slidenum">
              <a:t>1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rcRect l="0" t="26391" r="57856" b="0"/>
          <a:stretch/>
        </p:blipFill>
        <p:spPr>
          <a:xfrm>
            <a:off x="490680" y="0"/>
            <a:ext cx="5895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9C0E-38BE-466F-8725-3B36068996B9}" type="slidenum">
              <a:t>145</a:t>
            </a:fld>
          </a:p>
        </p:txBody>
      </p:sp>
    </p:spTree>
  </p:cSld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st Case: Clinical Trial Ont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mary outco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ary outco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imepoin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nical tr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vention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ol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signment of populations to grou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mplex experimental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ndomiz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aceb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fficac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toc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ll hypothesis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idence interv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5A445-3978-43C6-82FC-7A524A211F64}" type="slidenum">
              <a:t>146</a:t>
            </a:fld>
          </a:p>
        </p:txBody>
      </p:sp>
    </p:spTree>
  </p:cSld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uGE idea: use OBI to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design datatab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w to solve this problem of converting the ontology to a database sch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are ‘instances’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notating images (image repositori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notation = shared understanding of a body of knowledg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 run a trial I stick my data in Excell and create a dat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ign database, design tables – that’s it – no more annotat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tadata is added regarding provenance, this data was added by A and corrected by Mc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 rare disease people share their data: here’s my data, here’s my data key, 1 is for males, 0 is for fem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aring is loc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ut UCSF (Clinical Data Repository) neurodegenerative people MS talk to Alzheimer’s they can’t because  (a) because of Hippa, (b) dataschemas are so different, (c) response to NIH: they put their excell spreadsheet out there, well gee whizz, (d) PharmGKB faced problems because of this (e) more obtuse the better. I can get another paper out of this dat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possibility of meta-analysis –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pposite of biologists’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31D6C-9E4B-4D33-B623-424F248F7DA7}" type="slidenum">
              <a:t>147</a:t>
            </a:fld>
          </a:p>
        </p:txBody>
      </p:sp>
    </p:spTree>
  </p:cSld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28600" y="2285640"/>
            <a:ext cx="861048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 of the Ontol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gy of Biomedical Investig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1295280" y="480060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h thanks to Trish Whetzel on behalf of the FuGO Working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0F6F-E3AD-4006-BB28-91280B049398}" type="slidenum">
              <a:t>148</a:t>
            </a:fld>
          </a:p>
        </p:txBody>
      </p:sp>
    </p:spTree>
  </p:cSld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B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rp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a resource for the unambiguous description of the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biomedical investigati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uch as the design, protocols and instrumentation, material, data and types of analysis on the dat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designed to model b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ow consistent annotation of data across different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echnologic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biological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ma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able powerful concept-driven qu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litate semantically-driven data integ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88920" cy="58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38899-5F70-42F8-BC14-90740201CA71}" type="slidenum">
              <a:t>149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: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Ontological Engineering</a:t>
            </a:r>
            <a:br>
              <a:rPr sz="4000"/>
            </a:b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(Semantic Web approa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 =def. a spatial point identified by a name (p. 1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rivalPlace =def. a journey ends at a location (p. 1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t =def. ternary relation that holds between a frame, a slot, and the facet (p. 51)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F7EC-552F-4426-A63B-085DB73BEEE1}" type="slidenum">
              <a:t>15</a:t>
            </a:fld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166860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rebuchet MS"/>
                <a:ea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Motivation for OB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andardization efforts in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biological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echnologic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ynt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Data exchange forma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provide a mechanism for software interoperability, e.g. FuGE Objec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ndard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emantic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 Controlled vocabularies or ont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ntralize commonalities for annotation term needs across domains to describe an investigation/study/experiment, e.g. Fu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AF840-5245-47A7-AD34-A4FCFCF4AB6A}" type="slidenum">
              <a:t>150</a:t>
            </a:fld>
          </a:p>
        </p:txBody>
      </p:sp>
    </p:spTree>
  </p:cSld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iomedical Investigation Compon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76320" y="1981080"/>
          <a:ext cx="32209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981080"/>
                    <a:ext cx="3220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"/>
          <p:cNvSpPr/>
          <p:nvPr/>
        </p:nvSpPr>
        <p:spPr>
          <a:xfrm>
            <a:off x="3429000" y="2590920"/>
            <a:ext cx="533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material and characteris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429000" y="2971800"/>
            <a:ext cx="5410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manipulations or perturbations or observations performed on the material to meet the general aim of the investig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429000" y="396252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the material was prepared for analysis - e.g. labeling, protein diges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429000" y="464832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instrument and settings that were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429000" y="525780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sults from the instrument, e.g. what units are repres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29000" y="5943600"/>
            <a:ext cx="50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type analysis performed to confirm/deny the hypothesis, e.g. clust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3429000" y="1905120"/>
            <a:ext cx="5410080" cy="703800"/>
            <a:chOff x="3429000" y="1905120"/>
            <a:chExt cx="5410080" cy="703800"/>
          </a:xfrm>
        </p:grpSpPr>
        <p:sp>
          <p:nvSpPr>
            <p:cNvPr id="658" name=""/>
            <p:cNvSpPr/>
            <p:nvPr/>
          </p:nvSpPr>
          <p:spPr>
            <a:xfrm>
              <a:off x="3429000" y="1905120"/>
              <a:ext cx="5410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scribe the design and purpose or general aim of the the Investigation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29000" y="1981080"/>
              <a:ext cx="5257800" cy="533520"/>
            </a:xfrm>
            <a:prstGeom prst="rect">
              <a:avLst/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429000" y="2666880"/>
            <a:ext cx="5334120" cy="30492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3048120"/>
            <a:ext cx="5334120" cy="91440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429000" y="4038480"/>
            <a:ext cx="5334120" cy="6098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29000" y="4724280"/>
            <a:ext cx="5334120" cy="53352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429000" y="5334120"/>
            <a:ext cx="5334120" cy="6094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429000" y="6019920"/>
            <a:ext cx="5334120" cy="83808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D1806-155E-42E6-A370-B57827FA0F7B}" type="slidenum">
              <a:t>151</a:t>
            </a:fld>
          </a:p>
        </p:txBody>
      </p:sp>
    </p:spTree>
  </p:cSld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FuGO Development </a:t>
            </a:r>
            <a:br>
              <a:rPr sz="36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Strategy Deci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4146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Unified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P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verlap of terms is identified early in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niversal/Common terms are defined by all those collabor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echnologic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biologica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erms can be added as needed by collabor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e needed to develop the ont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2600" y="2057040"/>
            <a:ext cx="414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Independent Develop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P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elop ‘Ontology’ in a time frame limited only by the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velopment of different working polic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of different top level class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verlap of terms at lower levels of the ontology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EB05E-7F92-4672-A488-A1C36A4F18B5}" type="slidenum">
              <a:t>152</a:t>
            </a:fld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FuGO Development Pro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llect Use Cases - within communit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llect examples of investigations as performed within a community and present Use Cases to developers gro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ttom up approach - within community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dentify concepts to describe using controlled te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llect terms and their defini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in terms in the top level ontology 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p down approach - collaborative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uild a top level ontology structure, is_a (vertical) relation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ke a list of other foreseen (horizontal) relation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view how Top Level Nodes fit in with the Upper Level Ont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F540C-61B9-4B24-ACB7-983E58364D23}" type="slidenum">
              <a:t>153</a:t>
            </a:fld>
          </a:p>
        </p:txBody>
      </p:sp>
    </p:spTree>
  </p:cSld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FuGO - Top Level Cla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tinuant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 entity that endure/remains the same through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ent Continuant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pend on another ent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Environment (depend on the set of ranges of conditions, e.g. geographic lo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Characteristics (entity that can be measured, e.g. temperature, un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alizable: an entity that is realizable through a process (executed/ru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Software (a set of machine instructi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Design (the plan that can be realized in a proc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Role (the part played by an entity within the context of a proc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dependent Continuant: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s on its 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ll physical entity (instrument, technology platform, document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Biological material (organism, population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70000"/>
              </a:lnSpc>
              <a:spcBef>
                <a:spcPts val="18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ccurrent: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 entity that occurs/unfold in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Temporal Regions, Spatio-Temporal Regions (single actions or Even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0">
              <a:lnSpc>
                <a:spcPct val="6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Investigation (the entire ‘experimental’ proce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6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Study (process of acquiring and treating the biological mater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6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.g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ssay (process of performing some tests and recording the result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5083-D6A7-4976-BCA3-3DF18ED01EDC}" type="slidenum">
              <a:t>154</a:t>
            </a:fld>
          </a:p>
        </p:txBody>
      </p:sp>
    </p:spTree>
  </p:cSld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merging FuGO Design Princi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O Foundry ontology, utilize ontology best pract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herit top level classes from an Upper Level ontolo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se of the Relation Ontolog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ollow additional OBO Foundry princip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Facilitates interoperability with other OBO Foundry ontolog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recommendations for naming conventions and meta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Format for term names, e.g. underscore vs. camel case, no pural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se of Alphanumeric identifier for terms, I.e. something that does not have semantic mea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echanisms for adding synonyms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Open source appro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Protégé/OW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Weekly conference cal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Shared environment using Sourceforge (SF) and SF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C885C-F0AE-4F47-AA3E-C17ADBEAE849}" type="slidenum">
              <a:t>155</a:t>
            </a:fld>
          </a:p>
        </p:txBody>
      </p:sp>
    </p:spTree>
  </p:cSld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Future Pl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Binning process - ongo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Courier New"/>
              </a:rPr>
              <a:t>Reconciliations into one canonical ver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Courier New"/>
              </a:rPr>
              <a:t>Iterative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Courier New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  <a:ea typeface="Courier New"/>
              </a:rPr>
              <a:t>Common w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rking practices - establish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ach class consists of: unique alphanumeric identifier, human readable string name, definition and com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forge tracker in place to collect comments on terms, definitions, relation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view ontology so that top level classes meet the needs of all involved ‘communities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6EAA5-8AF0-4B7B-B7F8-E7F282D5B91B}" type="slidenum">
              <a:t>156</a:t>
            </a:fld>
          </a:p>
        </p:txBody>
      </p:sp>
    </p:spTree>
  </p:cSld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GO Collaborating Commun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op sciences Generation Challenge Programme (GCP), www.generationcp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vironmental genomics MGED RSBI Group, www.mged.org/Workgroups/rs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nomic Standards Consortium (GSC), www.genomics.ceh.ac.uk/genomecatalog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UPO Proteomics Standards Initiative (PSI), psidev.sourceforge.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munology Database and Analysis Portal, www.immport.or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mune Epitope Database and Analysis Resource (IEDB), http://www.immuneepitope.org/home.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tional Society for Analytical Cytology, http://www.isac-net.or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etabolomics Standards Initiative (MSI), msi.workgroups.sourceforge.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urogenetics, Biomedical Informatics Research Network (BIRN), www.nbirn.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trigenomics MGED RSBI Group, www.mged.org/Workgroups/rs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ymorphis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xicogenomics MGED RSBI Group, www.mged.org/Workgroups/rs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criptomics MGED Ontology Group, mged.sourceforge.net/ontologi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3C63-1D98-471B-B9AD-EBA3B09D2C98}" type="slidenum">
              <a:t>157</a:t>
            </a:fld>
          </a:p>
        </p:txBody>
      </p:sp>
    </p:spTree>
  </p:cSld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GO and it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lationship to GS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g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oidy level - Can Locate in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 this a model organism - Locate in XML Schema or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erence for the description of the biological material sequenced (isolate, soil sample etc) - Can Locate in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st - point to the NCBI Taxon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lth/disease status of source host at time of collection - point to Disease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DB6AE-69E3-4BDC-91CC-E675C4A85811}" type="slidenum">
              <a:t>158</a:t>
            </a:fld>
          </a:p>
        </p:txBody>
      </p:sp>
    </p:spTree>
  </p:cSld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GO and it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lationship to GS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of sample - Point to Unit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ing strategy (was it enriched, screened, normalized) - Can Locate in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 preparation (DNA extraction method and amplificati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DA, emPCR, plones) - Can Locate in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encing Method Used (e.g. dideoxysequencing, pyrosequencing, polony) - Can Locate in Fu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68F2E-98A6-4F72-8122-8C76F78A6C00}" type="slidenum">
              <a:t>159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tity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thing which exists, including things and processes, functions and qualities, beliefs and actions, documents and software (Levels 1, 2 and 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B16C6-5F86-4B3A-BEC9-5AC8C79F5A5D}" type="slidenum">
              <a:t>16</a:t>
            </a:fld>
          </a:p>
        </p:txBody>
      </p:sp>
    </p:spTree>
  </p:cSld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GO and it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lationship to GS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Process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sembly (assembly method, estimated error rate and method of calculation) - Can Locate in Fu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ification (binning) method for fragments - Can Locate in Fu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51C2F-DD7F-4DCD-BECC-E08FAB94FDB4}" type="slidenum">
              <a:t>160</a:t>
            </a:fld>
          </a:p>
        </p:txBody>
      </p:sp>
    </p:spTree>
  </p:cSld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Mechanisms for GSC to Contribute to FuG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st involved in standardization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nefit - choice in where to encounter that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oice of Metho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n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yb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tends the work done by all those collaborating for use by a given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verlap of terms at lower levels of the ontology tre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ed to re-build when top-level cha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FE2B-2F96-4A64-8531-BE931B7E7FB5}" type="slidenum">
              <a:t>161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1523880" y="4724280"/>
            <a:ext cx="617220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603440" y="4800600"/>
            <a:ext cx="601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http://fugo.sourceforge.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53D63-3A39-49D8-9132-06E7A9E80436}" type="slidenum">
              <a:t>162</a:t>
            </a:fld>
          </a:p>
        </p:txBody>
      </p:sp>
    </p:spTree>
  </p:cSld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490680" y="1066680"/>
            <a:ext cx="82375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25FFC-B505-4DEE-A00D-511A025E7FA5}" type="slidenum">
              <a:t>163</a:t>
            </a:fld>
          </a:p>
        </p:txBody>
      </p:sp>
    </p:spTree>
  </p:cSld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490680" y="1066680"/>
            <a:ext cx="82375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6670-45CF-49C0-A765-2931BF9236D5}" type="slidenum">
              <a:t>164</a:t>
            </a:fld>
          </a:p>
        </p:txBody>
      </p:sp>
    </p:spTree>
  </p:cSld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490680" y="1066680"/>
            <a:ext cx="82375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B50A5-0E8B-4EF3-B386-76CEADD38532}" type="slidenum">
              <a:t>165</a:t>
            </a:fld>
          </a:p>
        </p:txBody>
      </p:sp>
    </p:spTree>
  </p:cSld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3165480" y="312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1"/>
          <a:srcRect l="0" t="2778" r="0" b="0"/>
          <a:stretch/>
        </p:blipFill>
        <p:spPr>
          <a:xfrm>
            <a:off x="490680" y="1066680"/>
            <a:ext cx="8237520" cy="5334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4AF6-E4D9-4524-B549-B7DF2470B368}" type="slidenum">
              <a:t>166</a:t>
            </a:fld>
          </a:p>
        </p:txBody>
      </p:sp>
    </p:spTree>
  </p:cSld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7E939-A07B-4F18-B839-7BB2E675A418}" type="slidenum">
              <a:t>1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basic distin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22856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ivers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s.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cience tex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vs. dia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s. Maximili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26AB-A6AF-437B-B93A-83E19D99CFB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371240"/>
            <a:ext cx="838188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tances </a:t>
            </a:r>
            <a:r>
              <a:rPr b="0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databases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scientific ont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3000" y="2057040"/>
            <a:ext cx="796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generaliz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at are important = universals, types, kinds,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9A99-C17E-4B80-9F73-FCC7D44EF9E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-198360"/>
            <a:ext cx="9144000" cy="502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685800" y="4952880"/>
          <a:ext cx="8229600" cy="1909800"/>
        </p:xfrm>
        <a:graphic>
          <a:graphicData uri="http://schemas.openxmlformats.org/drawingml/2006/table">
            <a:tbl>
              <a:tblPr/>
              <a:tblGrid>
                <a:gridCol w="609480"/>
                <a:gridCol w="1905120"/>
                <a:gridCol w="4119480"/>
                <a:gridCol w="981000"/>
                <a:gridCol w="614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528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C3300 Dust Collector F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168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ilmer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168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or Drive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"/>
          <p:cNvSpPr/>
          <p:nvPr/>
        </p:nvSpPr>
        <p:spPr>
          <a:xfrm>
            <a:off x="3048120" y="-228600"/>
            <a:ext cx="5867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talog vs. inven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5542-520F-492D-A988-D09A9D42554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sion of the NCB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create software and support services for science-based ontology development and use in the biomedical doma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ce-b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 ontologies for support of scientific research (taken as encompassing evidence-based medic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cience-bas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using the scientific method as part of the process of ontology development and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8BFC-E1BA-46BB-8A9D-09FB4481B4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talog vs. inven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3892" t="22228" r="3704" b="14819"/>
          <a:stretch/>
        </p:blipFill>
        <p:spPr>
          <a:xfrm>
            <a:off x="0" y="1994040"/>
            <a:ext cx="9144000" cy="349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34920" y="1981080"/>
          <a:ext cx="9032760" cy="3479400"/>
        </p:xfrm>
        <a:graphic>
          <a:graphicData uri="http://schemas.openxmlformats.org/drawingml/2006/table">
            <a:tbl>
              <a:tblPr/>
              <a:tblGrid>
                <a:gridCol w="2860200"/>
                <a:gridCol w="3086280"/>
                <a:gridCol w="3086280"/>
              </a:tblGrid>
              <a:tr h="5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723C6-1C1D-4DD7-A12D-FB472AC1AF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talog of Universals/Ty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6320" y="1981080"/>
          <a:ext cx="8991360" cy="3479760"/>
        </p:xfrm>
        <a:graphic>
          <a:graphicData uri="http://schemas.openxmlformats.org/drawingml/2006/table">
            <a:tbl>
              <a:tblPr/>
              <a:tblGrid>
                <a:gridCol w="2795400"/>
                <a:gridCol w="3097440"/>
                <a:gridCol w="309852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7CE2-639F-473A-93E6-6ADCB0C1613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257440"/>
            <a:ext cx="876312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y     Universals    Instan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 rot="856800">
            <a:off x="6095520" y="884160"/>
            <a:ext cx="2514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743200" y="838080"/>
          <a:ext cx="3504960" cy="4525920"/>
        </p:xfrm>
        <a:graphic>
          <a:graphicData uri="http://schemas.openxmlformats.org/drawingml/2006/table">
            <a:tbl>
              <a:tblPr/>
              <a:tblGrid>
                <a:gridCol w="1168560"/>
                <a:gridCol w="1167840"/>
                <a:gridCol w="116856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03" name=""/>
          <p:cNvGrpSpPr/>
          <p:nvPr/>
        </p:nvGrpSpPr>
        <p:grpSpPr>
          <a:xfrm>
            <a:off x="-347040" y="780120"/>
            <a:ext cx="3663000" cy="4990680"/>
            <a:chOff x="-347040" y="780120"/>
            <a:chExt cx="3663000" cy="4990680"/>
          </a:xfrm>
        </p:grpSpPr>
        <p:grpSp>
          <p:nvGrpSpPr>
            <p:cNvPr id="104" name=""/>
            <p:cNvGrpSpPr/>
            <p:nvPr/>
          </p:nvGrpSpPr>
          <p:grpSpPr>
            <a:xfrm>
              <a:off x="348120" y="4281840"/>
              <a:ext cx="454680" cy="1488960"/>
              <a:chOff x="348120" y="4281840"/>
              <a:chExt cx="454680" cy="1488960"/>
            </a:xfrm>
          </p:grpSpPr>
          <p:sp>
            <p:nvSpPr>
              <p:cNvPr id="105" name=""/>
              <p:cNvSpPr/>
              <p:nvPr/>
            </p:nvSpPr>
            <p:spPr>
              <a:xfrm rot="21045600">
                <a:off x="461160" y="4830840"/>
                <a:ext cx="14652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6" name=""/>
              <p:cNvCxnSpPr>
                <a:stCxn id="105" idx="4"/>
                <a:endCxn id="107" idx="2"/>
              </p:cNvCxnSpPr>
              <p:nvPr/>
            </p:nvCxnSpPr>
            <p:spPr>
              <a:xfrm flipV="1">
                <a:off x="606600" y="4281840"/>
                <a:ext cx="196560" cy="80460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 rot="21045600">
                <a:off x="383400" y="530136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 rot="21045600">
              <a:off x="1036080" y="365292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47720" y="3458880"/>
              <a:ext cx="408240" cy="1392120"/>
              <a:chOff x="747720" y="3458880"/>
              <a:chExt cx="408240" cy="1392120"/>
            </a:xfrm>
          </p:grpSpPr>
          <p:sp>
            <p:nvSpPr>
              <p:cNvPr id="107" name=""/>
              <p:cNvSpPr/>
              <p:nvPr/>
            </p:nvSpPr>
            <p:spPr>
              <a:xfrm rot="21045600">
                <a:off x="789480" y="392832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1" name=""/>
              <p:cNvCxnSpPr>
                <a:stCxn id="107" idx="4"/>
                <a:endCxn id="112" idx="2"/>
              </p:cNvCxnSpPr>
              <p:nvPr/>
            </p:nvCxnSpPr>
            <p:spPr>
              <a:xfrm flipV="1">
                <a:off x="935280" y="3458880"/>
                <a:ext cx="179640" cy="72468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13" name=""/>
              <p:cNvSpPr/>
              <p:nvPr/>
            </p:nvSpPr>
            <p:spPr>
              <a:xfrm rot="21045600">
                <a:off x="826920" y="4372920"/>
                <a:ext cx="294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14" name=""/>
            <p:cNvCxnSpPr>
              <a:stCxn id="115" idx="4"/>
              <a:endCxn id="116" idx="1"/>
            </p:cNvCxnSpPr>
            <p:nvPr/>
          </p:nvCxnSpPr>
          <p:spPr>
            <a:xfrm>
              <a:off x="2206440" y="1042920"/>
              <a:ext cx="393840" cy="159660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grpSp>
          <p:nvGrpSpPr>
            <p:cNvPr id="117" name=""/>
            <p:cNvGrpSpPr/>
            <p:nvPr/>
          </p:nvGrpSpPr>
          <p:grpSpPr>
            <a:xfrm>
              <a:off x="1573560" y="1217520"/>
              <a:ext cx="512280" cy="1499400"/>
              <a:chOff x="1573560" y="1217520"/>
              <a:chExt cx="512280" cy="1499400"/>
            </a:xfrm>
          </p:grpSpPr>
          <p:cxnSp>
            <p:nvCxnSpPr>
              <p:cNvPr id="118" name=""/>
              <p:cNvCxnSpPr>
                <a:stCxn id="119" idx="4"/>
                <a:endCxn id="115" idx="2"/>
              </p:cNvCxnSpPr>
              <p:nvPr/>
            </p:nvCxnSpPr>
            <p:spPr>
              <a:xfrm flipV="1">
                <a:off x="1844280" y="1217520"/>
                <a:ext cx="241920" cy="8895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20" name=""/>
              <p:cNvSpPr/>
              <p:nvPr/>
            </p:nvSpPr>
            <p:spPr>
              <a:xfrm rot="21045600">
                <a:off x="1608840" y="224748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21045600">
                <a:off x="1698840" y="185184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860840" y="780120"/>
              <a:ext cx="680760" cy="963720"/>
              <a:chOff x="1860840" y="780120"/>
              <a:chExt cx="680760" cy="963720"/>
            </a:xfrm>
          </p:grpSpPr>
          <p:sp>
            <p:nvSpPr>
              <p:cNvPr id="115" name=""/>
              <p:cNvSpPr/>
              <p:nvPr/>
            </p:nvSpPr>
            <p:spPr>
              <a:xfrm rot="21045600">
                <a:off x="2060280" y="788040"/>
                <a:ext cx="14616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21045600">
                <a:off x="1893240" y="1239840"/>
                <a:ext cx="615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 rot="21045600">
              <a:off x="2568960" y="263484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1045600">
              <a:off x="2391840" y="428508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1045600">
              <a:off x="3127680" y="424260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5" name=""/>
            <p:cNvCxnSpPr>
              <a:stCxn id="126" idx="4"/>
              <a:endCxn id="123" idx="1"/>
            </p:cNvCxnSpPr>
            <p:nvPr/>
          </p:nvCxnSpPr>
          <p:spPr>
            <a:xfrm>
              <a:off x="1562760" y="2747880"/>
              <a:ext cx="859680" cy="15415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27" name=""/>
            <p:cNvCxnSpPr>
              <a:stCxn id="116" idx="4"/>
              <a:endCxn id="124" idx="1"/>
            </p:cNvCxnSpPr>
            <p:nvPr/>
          </p:nvCxnSpPr>
          <p:spPr>
            <a:xfrm>
              <a:off x="2714760" y="2890080"/>
              <a:ext cx="443880" cy="135684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12" name=""/>
            <p:cNvSpPr/>
            <p:nvPr/>
          </p:nvSpPr>
          <p:spPr>
            <a:xfrm rot="21045600">
              <a:off x="1113480" y="3180600"/>
              <a:ext cx="14652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21045600">
              <a:off x="-261720" y="1140840"/>
              <a:ext cx="99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259280" y="2130120"/>
              <a:ext cx="440280" cy="1305360"/>
              <a:chOff x="1259280" y="2130120"/>
              <a:chExt cx="440280" cy="1305360"/>
            </a:xfrm>
          </p:grpSpPr>
          <p:sp>
            <p:nvSpPr>
              <p:cNvPr id="126" name=""/>
              <p:cNvSpPr/>
              <p:nvPr/>
            </p:nvSpPr>
            <p:spPr>
              <a:xfrm rot="21045600">
                <a:off x="1416960" y="2514960"/>
                <a:ext cx="146520" cy="488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0" name=""/>
              <p:cNvCxnSpPr>
                <a:stCxn id="126" idx="4"/>
              </p:cNvCxnSpPr>
              <p:nvPr/>
            </p:nvCxnSpPr>
            <p:spPr>
              <a:xfrm flipV="1">
                <a:off x="1562760" y="2130120"/>
                <a:ext cx="137160" cy="6177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31" name=""/>
              <p:cNvSpPr/>
              <p:nvPr/>
            </p:nvSpPr>
            <p:spPr>
              <a:xfrm rot="21045600">
                <a:off x="1386720" y="293976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32" name=""/>
              <p:cNvCxnSpPr>
                <a:endCxn id="126" idx="2"/>
              </p:cNvCxnSpPr>
              <p:nvPr/>
            </p:nvCxnSpPr>
            <p:spPr>
              <a:xfrm flipV="1">
                <a:off x="1259280" y="2770920"/>
                <a:ext cx="159480" cy="66492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</p:grpSp>
        <p:sp>
          <p:nvSpPr>
            <p:cNvPr id="133" name=""/>
            <p:cNvSpPr/>
            <p:nvPr/>
          </p:nvSpPr>
          <p:spPr>
            <a:xfrm rot="21045600">
              <a:off x="2546280" y="4719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21045600">
              <a:off x="1061280" y="4937400"/>
              <a:ext cx="468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659160" y="5156280"/>
              <a:ext cx="404640" cy="6588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85800" y="4952880"/>
            <a:ext cx="685800" cy="38124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1A37F-C19A-4026-B819-1077A3397C37}" type="slidenum">
              <a:t>22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y = A Representation of Univers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 rot="856800">
            <a:off x="6095520" y="884160"/>
            <a:ext cx="2514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2743200" y="838080"/>
          <a:ext cx="3504960" cy="4525920"/>
        </p:xfrm>
        <a:graphic>
          <a:graphicData uri="http://schemas.openxmlformats.org/drawingml/2006/table">
            <a:tbl>
              <a:tblPr/>
              <a:tblGrid>
                <a:gridCol w="1168560"/>
                <a:gridCol w="1167840"/>
                <a:gridCol w="116856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-347040" y="780120"/>
            <a:ext cx="3663000" cy="4990680"/>
            <a:chOff x="-347040" y="780120"/>
            <a:chExt cx="3663000" cy="4990680"/>
          </a:xfrm>
        </p:grpSpPr>
        <p:grpSp>
          <p:nvGrpSpPr>
            <p:cNvPr id="141" name=""/>
            <p:cNvGrpSpPr/>
            <p:nvPr/>
          </p:nvGrpSpPr>
          <p:grpSpPr>
            <a:xfrm>
              <a:off x="348120" y="4281840"/>
              <a:ext cx="454680" cy="1488960"/>
              <a:chOff x="348120" y="4281840"/>
              <a:chExt cx="454680" cy="1488960"/>
            </a:xfrm>
          </p:grpSpPr>
          <p:sp>
            <p:nvSpPr>
              <p:cNvPr id="142" name=""/>
              <p:cNvSpPr/>
              <p:nvPr/>
            </p:nvSpPr>
            <p:spPr>
              <a:xfrm rot="21045600">
                <a:off x="461160" y="4830840"/>
                <a:ext cx="14652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3" name=""/>
              <p:cNvCxnSpPr>
                <a:stCxn id="142" idx="4"/>
                <a:endCxn id="144" idx="2"/>
              </p:cNvCxnSpPr>
              <p:nvPr/>
            </p:nvCxnSpPr>
            <p:spPr>
              <a:xfrm flipV="1">
                <a:off x="606600" y="4281840"/>
                <a:ext cx="196560" cy="80460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45" name=""/>
              <p:cNvSpPr/>
              <p:nvPr/>
            </p:nvSpPr>
            <p:spPr>
              <a:xfrm rot="21045600">
                <a:off x="383400" y="530136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rot="21045600">
              <a:off x="1036080" y="365292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47720" y="3458880"/>
              <a:ext cx="408240" cy="1392120"/>
              <a:chOff x="747720" y="3458880"/>
              <a:chExt cx="408240" cy="1392120"/>
            </a:xfrm>
          </p:grpSpPr>
          <p:sp>
            <p:nvSpPr>
              <p:cNvPr id="144" name=""/>
              <p:cNvSpPr/>
              <p:nvPr/>
            </p:nvSpPr>
            <p:spPr>
              <a:xfrm rot="21045600">
                <a:off x="789480" y="392832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8" name=""/>
              <p:cNvCxnSpPr>
                <a:stCxn id="144" idx="4"/>
                <a:endCxn id="149" idx="2"/>
              </p:cNvCxnSpPr>
              <p:nvPr/>
            </p:nvCxnSpPr>
            <p:spPr>
              <a:xfrm flipV="1">
                <a:off x="935280" y="3458880"/>
                <a:ext cx="179640" cy="72468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50" name=""/>
              <p:cNvSpPr/>
              <p:nvPr/>
            </p:nvSpPr>
            <p:spPr>
              <a:xfrm rot="21045600">
                <a:off x="826920" y="4372920"/>
                <a:ext cx="294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1" name=""/>
            <p:cNvCxnSpPr>
              <a:stCxn id="152" idx="4"/>
              <a:endCxn id="153" idx="1"/>
            </p:cNvCxnSpPr>
            <p:nvPr/>
          </p:nvCxnSpPr>
          <p:spPr>
            <a:xfrm>
              <a:off x="2206440" y="1042920"/>
              <a:ext cx="393840" cy="159660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grpSp>
          <p:nvGrpSpPr>
            <p:cNvPr id="154" name=""/>
            <p:cNvGrpSpPr/>
            <p:nvPr/>
          </p:nvGrpSpPr>
          <p:grpSpPr>
            <a:xfrm>
              <a:off x="1573560" y="1217520"/>
              <a:ext cx="512280" cy="1499400"/>
              <a:chOff x="1573560" y="1217520"/>
              <a:chExt cx="512280" cy="1499400"/>
            </a:xfrm>
          </p:grpSpPr>
          <p:cxnSp>
            <p:nvCxnSpPr>
              <p:cNvPr id="155" name=""/>
              <p:cNvCxnSpPr>
                <a:stCxn id="156" idx="4"/>
                <a:endCxn id="152" idx="2"/>
              </p:cNvCxnSpPr>
              <p:nvPr/>
            </p:nvCxnSpPr>
            <p:spPr>
              <a:xfrm flipV="1">
                <a:off x="1844280" y="1217520"/>
                <a:ext cx="241920" cy="8895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57" name=""/>
              <p:cNvSpPr/>
              <p:nvPr/>
            </p:nvSpPr>
            <p:spPr>
              <a:xfrm rot="21045600">
                <a:off x="1608840" y="224748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21045600">
                <a:off x="1698840" y="185184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860840" y="780120"/>
              <a:ext cx="680760" cy="963720"/>
              <a:chOff x="1860840" y="780120"/>
              <a:chExt cx="680760" cy="963720"/>
            </a:xfrm>
          </p:grpSpPr>
          <p:sp>
            <p:nvSpPr>
              <p:cNvPr id="152" name=""/>
              <p:cNvSpPr/>
              <p:nvPr/>
            </p:nvSpPr>
            <p:spPr>
              <a:xfrm rot="21045600">
                <a:off x="2060280" y="788040"/>
                <a:ext cx="14616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1045600">
                <a:off x="1893240" y="1239840"/>
                <a:ext cx="615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 rot="21045600">
              <a:off x="2568960" y="263484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1045600">
              <a:off x="2391840" y="428508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1045600">
              <a:off x="3127680" y="424260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"/>
            <p:cNvCxnSpPr>
              <a:stCxn id="163" idx="4"/>
              <a:endCxn id="160" idx="1"/>
            </p:cNvCxnSpPr>
            <p:nvPr/>
          </p:nvCxnSpPr>
          <p:spPr>
            <a:xfrm>
              <a:off x="1562760" y="2747880"/>
              <a:ext cx="859680" cy="15415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64" name=""/>
            <p:cNvCxnSpPr>
              <a:stCxn id="153" idx="4"/>
              <a:endCxn id="161" idx="1"/>
            </p:cNvCxnSpPr>
            <p:nvPr/>
          </p:nvCxnSpPr>
          <p:spPr>
            <a:xfrm>
              <a:off x="2714760" y="2890080"/>
              <a:ext cx="443880" cy="135684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49" name=""/>
            <p:cNvSpPr/>
            <p:nvPr/>
          </p:nvSpPr>
          <p:spPr>
            <a:xfrm rot="21045600">
              <a:off x="1113480" y="3180600"/>
              <a:ext cx="14652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1045600">
              <a:off x="-261720" y="1140840"/>
              <a:ext cx="99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259280" y="2130120"/>
              <a:ext cx="440280" cy="1305360"/>
              <a:chOff x="1259280" y="2130120"/>
              <a:chExt cx="440280" cy="1305360"/>
            </a:xfrm>
          </p:grpSpPr>
          <p:sp>
            <p:nvSpPr>
              <p:cNvPr id="163" name=""/>
              <p:cNvSpPr/>
              <p:nvPr/>
            </p:nvSpPr>
            <p:spPr>
              <a:xfrm rot="21045600">
                <a:off x="1416960" y="2514960"/>
                <a:ext cx="146520" cy="488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7" name=""/>
              <p:cNvCxnSpPr>
                <a:stCxn id="163" idx="4"/>
              </p:cNvCxnSpPr>
              <p:nvPr/>
            </p:nvCxnSpPr>
            <p:spPr>
              <a:xfrm flipV="1">
                <a:off x="1562760" y="2130120"/>
                <a:ext cx="137160" cy="6177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68" name=""/>
              <p:cNvSpPr/>
              <p:nvPr/>
            </p:nvSpPr>
            <p:spPr>
              <a:xfrm rot="21045600">
                <a:off x="1386720" y="293976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9" name=""/>
              <p:cNvCxnSpPr>
                <a:endCxn id="163" idx="2"/>
              </p:cNvCxnSpPr>
              <p:nvPr/>
            </p:nvCxnSpPr>
            <p:spPr>
              <a:xfrm flipV="1">
                <a:off x="1259280" y="2770920"/>
                <a:ext cx="159480" cy="66492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</p:grpSp>
        <p:sp>
          <p:nvSpPr>
            <p:cNvPr id="170" name=""/>
            <p:cNvSpPr/>
            <p:nvPr/>
          </p:nvSpPr>
          <p:spPr>
            <a:xfrm rot="21045600">
              <a:off x="2546280" y="4719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1045600">
              <a:off x="1061280" y="4937400"/>
              <a:ext cx="468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59160" y="5156280"/>
              <a:ext cx="404640" cy="6588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85800" y="4952880"/>
            <a:ext cx="685800" cy="381240"/>
          </a:xfrm>
          <a:prstGeom prst="rect">
            <a:avLst/>
          </a:prstGeom>
          <a:solidFill>
            <a:srgbClr val="000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F061-662B-4177-92BD-5AE20D83C9D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533376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y = A representation of univers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-347040" y="780120"/>
            <a:ext cx="3663000" cy="4990680"/>
            <a:chOff x="-347040" y="780120"/>
            <a:chExt cx="3663000" cy="4990680"/>
          </a:xfrm>
        </p:grpSpPr>
        <p:grpSp>
          <p:nvGrpSpPr>
            <p:cNvPr id="176" name=""/>
            <p:cNvGrpSpPr/>
            <p:nvPr/>
          </p:nvGrpSpPr>
          <p:grpSpPr>
            <a:xfrm>
              <a:off x="348120" y="4281840"/>
              <a:ext cx="454680" cy="1488960"/>
              <a:chOff x="348120" y="4281840"/>
              <a:chExt cx="454680" cy="1488960"/>
            </a:xfrm>
          </p:grpSpPr>
          <p:sp>
            <p:nvSpPr>
              <p:cNvPr id="177" name=""/>
              <p:cNvSpPr/>
              <p:nvPr/>
            </p:nvSpPr>
            <p:spPr>
              <a:xfrm rot="21045600">
                <a:off x="461160" y="4830840"/>
                <a:ext cx="14652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8" name=""/>
              <p:cNvCxnSpPr>
                <a:stCxn id="177" idx="4"/>
                <a:endCxn id="179" idx="2"/>
              </p:cNvCxnSpPr>
              <p:nvPr/>
            </p:nvCxnSpPr>
            <p:spPr>
              <a:xfrm flipV="1">
                <a:off x="606600" y="4281840"/>
                <a:ext cx="196560" cy="80460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80" name=""/>
              <p:cNvSpPr/>
              <p:nvPr/>
            </p:nvSpPr>
            <p:spPr>
              <a:xfrm rot="21045600">
                <a:off x="383400" y="530136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 rot="21045600">
              <a:off x="1036080" y="365292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747720" y="3458880"/>
              <a:ext cx="408240" cy="1392120"/>
              <a:chOff x="747720" y="3458880"/>
              <a:chExt cx="408240" cy="1392120"/>
            </a:xfrm>
          </p:grpSpPr>
          <p:sp>
            <p:nvSpPr>
              <p:cNvPr id="179" name=""/>
              <p:cNvSpPr/>
              <p:nvPr/>
            </p:nvSpPr>
            <p:spPr>
              <a:xfrm rot="21045600">
                <a:off x="789480" y="392832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3" name=""/>
              <p:cNvCxnSpPr>
                <a:stCxn id="179" idx="4"/>
                <a:endCxn id="184" idx="2"/>
              </p:cNvCxnSpPr>
              <p:nvPr/>
            </p:nvCxnSpPr>
            <p:spPr>
              <a:xfrm flipV="1">
                <a:off x="935280" y="3458880"/>
                <a:ext cx="179640" cy="72468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85" name=""/>
              <p:cNvSpPr/>
              <p:nvPr/>
            </p:nvSpPr>
            <p:spPr>
              <a:xfrm rot="21045600">
                <a:off x="826920" y="4372920"/>
                <a:ext cx="2941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86" name=""/>
            <p:cNvCxnSpPr>
              <a:stCxn id="187" idx="4"/>
              <a:endCxn id="188" idx="1"/>
            </p:cNvCxnSpPr>
            <p:nvPr/>
          </p:nvCxnSpPr>
          <p:spPr>
            <a:xfrm>
              <a:off x="2206440" y="1042920"/>
              <a:ext cx="393840" cy="159660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grpSp>
          <p:nvGrpSpPr>
            <p:cNvPr id="189" name=""/>
            <p:cNvGrpSpPr/>
            <p:nvPr/>
          </p:nvGrpSpPr>
          <p:grpSpPr>
            <a:xfrm>
              <a:off x="1573560" y="1217520"/>
              <a:ext cx="512280" cy="1499400"/>
              <a:chOff x="1573560" y="1217520"/>
              <a:chExt cx="512280" cy="1499400"/>
            </a:xfrm>
          </p:grpSpPr>
          <p:cxnSp>
            <p:nvCxnSpPr>
              <p:cNvPr id="190" name=""/>
              <p:cNvCxnSpPr>
                <a:stCxn id="191" idx="4"/>
                <a:endCxn id="187" idx="2"/>
              </p:cNvCxnSpPr>
              <p:nvPr/>
            </p:nvCxnSpPr>
            <p:spPr>
              <a:xfrm flipV="1">
                <a:off x="1844280" y="1217520"/>
                <a:ext cx="241920" cy="8895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192" name=""/>
              <p:cNvSpPr/>
              <p:nvPr/>
            </p:nvSpPr>
            <p:spPr>
              <a:xfrm rot="21045600">
                <a:off x="1608840" y="224748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1045600">
                <a:off x="1698840" y="1851840"/>
                <a:ext cx="146160" cy="53316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1860840" y="780120"/>
              <a:ext cx="680760" cy="963720"/>
              <a:chOff x="1860840" y="780120"/>
              <a:chExt cx="680760" cy="963720"/>
            </a:xfrm>
          </p:grpSpPr>
          <p:sp>
            <p:nvSpPr>
              <p:cNvPr id="187" name=""/>
              <p:cNvSpPr/>
              <p:nvPr/>
            </p:nvSpPr>
            <p:spPr>
              <a:xfrm rot="21045600">
                <a:off x="2060280" y="788040"/>
                <a:ext cx="146160" cy="533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21045600">
                <a:off x="1893240" y="1239840"/>
                <a:ext cx="6152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rot="21045600">
              <a:off x="2568960" y="263484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21045600">
              <a:off x="2391840" y="428508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21045600">
              <a:off x="3127680" y="4242600"/>
              <a:ext cx="14616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7" name=""/>
            <p:cNvCxnSpPr>
              <a:stCxn id="198" idx="4"/>
              <a:endCxn id="195" idx="1"/>
            </p:cNvCxnSpPr>
            <p:nvPr/>
          </p:nvCxnSpPr>
          <p:spPr>
            <a:xfrm>
              <a:off x="1562760" y="2747880"/>
              <a:ext cx="859680" cy="15415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</a:ln>
          </p:spPr>
        </p:cxnSp>
        <p:cxnSp>
          <p:nvCxnSpPr>
            <p:cNvPr id="199" name=""/>
            <p:cNvCxnSpPr>
              <a:stCxn id="188" idx="4"/>
              <a:endCxn id="196" idx="1"/>
            </p:cNvCxnSpPr>
            <p:nvPr/>
          </p:nvCxnSpPr>
          <p:spPr>
            <a:xfrm>
              <a:off x="2714760" y="2890080"/>
              <a:ext cx="443880" cy="135684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84" name=""/>
            <p:cNvSpPr/>
            <p:nvPr/>
          </p:nvSpPr>
          <p:spPr>
            <a:xfrm rot="21045600">
              <a:off x="1113480" y="3180600"/>
              <a:ext cx="14652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21045600">
              <a:off x="-261720" y="1140840"/>
              <a:ext cx="9964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1259280" y="2130120"/>
              <a:ext cx="440280" cy="1305360"/>
              <a:chOff x="1259280" y="2130120"/>
              <a:chExt cx="440280" cy="1305360"/>
            </a:xfrm>
          </p:grpSpPr>
          <p:sp>
            <p:nvSpPr>
              <p:cNvPr id="198" name=""/>
              <p:cNvSpPr/>
              <p:nvPr/>
            </p:nvSpPr>
            <p:spPr>
              <a:xfrm rot="21045600">
                <a:off x="1416960" y="2514960"/>
                <a:ext cx="146520" cy="488520"/>
              </a:xfrm>
              <a:prstGeom prst="ca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2" name=""/>
              <p:cNvCxnSpPr>
                <a:stCxn id="198" idx="4"/>
              </p:cNvCxnSpPr>
              <p:nvPr/>
            </p:nvCxnSpPr>
            <p:spPr>
              <a:xfrm flipV="1">
                <a:off x="1562760" y="2130120"/>
                <a:ext cx="137160" cy="61776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  <p:sp>
            <p:nvSpPr>
              <p:cNvPr id="203" name=""/>
              <p:cNvSpPr/>
              <p:nvPr/>
            </p:nvSpPr>
            <p:spPr>
              <a:xfrm rot="21045600">
                <a:off x="1386720" y="293976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4" name=""/>
              <p:cNvCxnSpPr>
                <a:endCxn id="198" idx="2"/>
              </p:cNvCxnSpPr>
              <p:nvPr/>
            </p:nvCxnSpPr>
            <p:spPr>
              <a:xfrm flipV="1">
                <a:off x="1259280" y="2770920"/>
                <a:ext cx="159480" cy="664920"/>
              </a:xfrm>
              <a:prstGeom prst="straightConnector1">
                <a:avLst/>
              </a:prstGeom>
              <a:ln w="22320">
                <a:solidFill>
                  <a:srgbClr val="ff0000"/>
                </a:solidFill>
                <a:miter/>
              </a:ln>
            </p:spPr>
          </p:cxnSp>
        </p:grpSp>
        <p:sp>
          <p:nvSpPr>
            <p:cNvPr id="205" name=""/>
            <p:cNvSpPr/>
            <p:nvPr/>
          </p:nvSpPr>
          <p:spPr>
            <a:xfrm rot="21045600">
              <a:off x="2546280" y="4719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21045600">
              <a:off x="1061280" y="4937400"/>
              <a:ext cx="4687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59160" y="5156280"/>
              <a:ext cx="404640" cy="6588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  <a:head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685800" y="502920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1447920"/>
            <a:ext cx="541008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ach node of an ontology consist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referred term (aka ter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erm identifier (TUI, aka CU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ynony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finition, glosses,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5029200"/>
            <a:ext cx="68580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60BA0-0F2C-4A3B-B385-390B6B96B30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ntology is a representation of univers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80520" y="251460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learn about universals in reality from looking at the results of scientific experiments in the form of scientific theories – which describe not what is particular in reality but what is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0664-C272-41EF-887E-6B532942A8C6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687960" y="3390480"/>
            <a:ext cx="1598400" cy="1410840"/>
            <a:chOff x="687960" y="3390480"/>
            <a:chExt cx="1598400" cy="1410840"/>
          </a:xfrm>
        </p:grpSpPr>
        <p:sp>
          <p:nvSpPr>
            <p:cNvPr id="215" name=""/>
            <p:cNvSpPr/>
            <p:nvPr/>
          </p:nvSpPr>
          <p:spPr>
            <a:xfrm>
              <a:off x="1066680" y="3885840"/>
              <a:ext cx="38124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6" name=""/>
            <p:cNvCxnSpPr>
              <a:stCxn id="215" idx="4"/>
              <a:endCxn id="217" idx="2"/>
            </p:cNvCxnSpPr>
            <p:nvPr/>
          </p:nvCxnSpPr>
          <p:spPr>
            <a:xfrm flipV="1">
              <a:off x="1447920" y="3390480"/>
              <a:ext cx="838800" cy="76248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218" name=""/>
            <p:cNvSpPr/>
            <p:nvPr/>
          </p:nvSpPr>
          <p:spPr>
            <a:xfrm>
              <a:off x="687960" y="4341600"/>
              <a:ext cx="13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iame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049560" y="28195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m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209680" y="2628360"/>
            <a:ext cx="1219320" cy="1336680"/>
            <a:chOff x="2209680" y="2628360"/>
            <a:chExt cx="1219320" cy="1336680"/>
          </a:xfrm>
        </p:grpSpPr>
        <p:sp>
          <p:nvSpPr>
            <p:cNvPr id="217" name=""/>
            <p:cNvSpPr/>
            <p:nvPr/>
          </p:nvSpPr>
          <p:spPr>
            <a:xfrm>
              <a:off x="2286000" y="3048120"/>
              <a:ext cx="380880" cy="5331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1" name=""/>
            <p:cNvCxnSpPr>
              <a:stCxn id="217" idx="4"/>
              <a:endCxn id="222" idx="2"/>
            </p:cNvCxnSpPr>
            <p:nvPr/>
          </p:nvCxnSpPr>
          <p:spPr>
            <a:xfrm flipV="1">
              <a:off x="2666520" y="2628360"/>
              <a:ext cx="762840" cy="68652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223" name=""/>
            <p:cNvSpPr/>
            <p:nvPr/>
          </p:nvSpPr>
          <p:spPr>
            <a:xfrm>
              <a:off x="2209680" y="3505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4" name=""/>
          <p:cNvCxnSpPr>
            <a:stCxn id="225" idx="4"/>
            <a:endCxn id="226" idx="1"/>
          </p:cNvCxnSpPr>
          <p:nvPr/>
        </p:nvCxnSpPr>
        <p:spPr>
          <a:xfrm>
            <a:off x="7238520" y="418680"/>
            <a:ext cx="343800" cy="16390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grpSp>
        <p:nvGrpSpPr>
          <p:cNvPr id="227" name=""/>
          <p:cNvGrpSpPr/>
          <p:nvPr/>
        </p:nvGrpSpPr>
        <p:grpSpPr>
          <a:xfrm>
            <a:off x="5107680" y="572760"/>
            <a:ext cx="1750680" cy="1410840"/>
            <a:chOff x="5107680" y="572760"/>
            <a:chExt cx="1750680" cy="1410840"/>
          </a:xfrm>
        </p:grpSpPr>
        <p:cxnSp>
          <p:nvCxnSpPr>
            <p:cNvPr id="228" name=""/>
            <p:cNvCxnSpPr>
              <a:stCxn id="229" idx="4"/>
              <a:endCxn id="225" idx="2"/>
            </p:cNvCxnSpPr>
            <p:nvPr/>
          </p:nvCxnSpPr>
          <p:spPr>
            <a:xfrm flipV="1">
              <a:off x="5867280" y="572760"/>
              <a:ext cx="991440" cy="83880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5107680" y="152388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gani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86400" y="1144440"/>
              <a:ext cx="380880" cy="5328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6248520" y="152280"/>
            <a:ext cx="1600200" cy="916920"/>
            <a:chOff x="6248520" y="152280"/>
            <a:chExt cx="1600200" cy="916920"/>
          </a:xfrm>
        </p:grpSpPr>
        <p:sp>
          <p:nvSpPr>
            <p:cNvPr id="225" name=""/>
            <p:cNvSpPr/>
            <p:nvPr/>
          </p:nvSpPr>
          <p:spPr>
            <a:xfrm>
              <a:off x="6858000" y="152280"/>
              <a:ext cx="38088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48520" y="609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ubst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7391520" y="2057400"/>
            <a:ext cx="38088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248520" y="3657600"/>
            <a:ext cx="38088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153280" y="3733920"/>
            <a:ext cx="38124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6" idx="4"/>
            <a:endCxn id="233" idx="1"/>
          </p:cNvCxnSpPr>
          <p:nvPr/>
        </p:nvCxnSpPr>
        <p:spPr>
          <a:xfrm>
            <a:off x="4876560" y="1998720"/>
            <a:ext cx="1562760" cy="165960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237" name=""/>
          <p:cNvCxnSpPr>
            <a:stCxn id="226" idx="4"/>
            <a:endCxn id="234" idx="1"/>
          </p:cNvCxnSpPr>
          <p:nvPr/>
        </p:nvCxnSpPr>
        <p:spPr>
          <a:xfrm>
            <a:off x="7772400" y="2324160"/>
            <a:ext cx="572400" cy="14104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22" name=""/>
          <p:cNvSpPr/>
          <p:nvPr/>
        </p:nvSpPr>
        <p:spPr>
          <a:xfrm>
            <a:off x="3429000" y="2362320"/>
            <a:ext cx="38088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191880"/>
            <a:ext cx="259092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Arial"/>
              </a:rPr>
              <a:t>univers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809520" y="1410840"/>
            <a:ext cx="1676880" cy="1220760"/>
            <a:chOff x="3809520" y="1410840"/>
            <a:chExt cx="1676880" cy="1220760"/>
          </a:xfrm>
        </p:grpSpPr>
        <p:sp>
          <p:nvSpPr>
            <p:cNvPr id="236" name=""/>
            <p:cNvSpPr/>
            <p:nvPr/>
          </p:nvSpPr>
          <p:spPr>
            <a:xfrm>
              <a:off x="4495680" y="1754280"/>
              <a:ext cx="381240" cy="4888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0" name=""/>
            <p:cNvCxnSpPr>
              <a:stCxn id="236" idx="4"/>
            </p:cNvCxnSpPr>
            <p:nvPr/>
          </p:nvCxnSpPr>
          <p:spPr>
            <a:xfrm flipV="1">
              <a:off x="4876560" y="1410840"/>
              <a:ext cx="610200" cy="58824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241" name=""/>
            <p:cNvSpPr/>
            <p:nvPr/>
          </p:nvSpPr>
          <p:spPr>
            <a:xfrm>
              <a:off x="4249440" y="2171880"/>
              <a:ext cx="107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ni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" name=""/>
            <p:cNvCxnSpPr>
              <a:endCxn id="236" idx="2"/>
            </p:cNvCxnSpPr>
            <p:nvPr/>
          </p:nvCxnSpPr>
          <p:spPr>
            <a:xfrm flipV="1">
              <a:off x="3809520" y="1998000"/>
              <a:ext cx="686520" cy="63108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</p:grpSp>
      <p:sp>
        <p:nvSpPr>
          <p:cNvPr id="243" name=""/>
          <p:cNvSpPr/>
          <p:nvPr/>
        </p:nvSpPr>
        <p:spPr>
          <a:xfrm>
            <a:off x="0" y="50292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10920" y="4330800"/>
            <a:ext cx="8382600" cy="1917720"/>
            <a:chOff x="610920" y="4330800"/>
            <a:chExt cx="8382600" cy="1917720"/>
          </a:xfrm>
        </p:grpSpPr>
        <p:grpSp>
          <p:nvGrpSpPr>
            <p:cNvPr id="245" name=""/>
            <p:cNvGrpSpPr/>
            <p:nvPr/>
          </p:nvGrpSpPr>
          <p:grpSpPr>
            <a:xfrm>
              <a:off x="610920" y="5410080"/>
              <a:ext cx="8304480" cy="838440"/>
              <a:chOff x="610920" y="5410080"/>
              <a:chExt cx="8304480" cy="838440"/>
            </a:xfrm>
          </p:grpSpPr>
          <p:sp>
            <p:nvSpPr>
              <p:cNvPr id="246" name=""/>
              <p:cNvSpPr/>
              <p:nvPr/>
            </p:nvSpPr>
            <p:spPr>
              <a:xfrm>
                <a:off x="610920" y="5502240"/>
                <a:ext cx="2113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36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instances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3733920" y="5410080"/>
                <a:ext cx="5181480" cy="838440"/>
                <a:chOff x="3733920" y="5410080"/>
                <a:chExt cx="5181480" cy="838440"/>
              </a:xfrm>
            </p:grpSpPr>
            <p:pic>
              <p:nvPicPr>
                <p:cNvPr id="24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33920" y="5410080"/>
                  <a:ext cx="838080" cy="80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791320" y="5438880"/>
                  <a:ext cx="838080" cy="80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24280" y="5410080"/>
                  <a:ext cx="838440" cy="80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077320" y="5410080"/>
                  <a:ext cx="838080" cy="809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934320" y="5438880"/>
                  <a:ext cx="838080" cy="809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53" name=""/>
            <p:cNvSpPr/>
            <p:nvPr/>
          </p:nvSpPr>
          <p:spPr>
            <a:xfrm rot="5383800">
              <a:off x="5984280" y="2249280"/>
              <a:ext cx="912960" cy="5100840"/>
            </a:xfrm>
            <a:custGeom>
              <a:avLst/>
              <a:gdLst>
                <a:gd name="textAreaLeft" fmla="*/ 583200 w 912960"/>
                <a:gd name="textAreaRight" fmla="*/ 913320 w 912960"/>
                <a:gd name="textAreaTop" fmla="*/ 132840 h 5100840"/>
                <a:gd name="textAreaBottom" fmla="*/ 4968000 h 5100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solidFill>
              <a:srgbClr val="ffffff">
                <a:alpha val="50000"/>
              </a:srgbClr>
            </a:solidFill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6478560" y="4114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41148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af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4295880"/>
            <a:ext cx="1067040" cy="0"/>
          </a:xfrm>
          <a:prstGeom prst="line">
            <a:avLst/>
          </a:prstGeom>
          <a:ln w="57240">
            <a:solidFill>
              <a:srgbClr val="9933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41DB-011A-4EB7-A91D-649256799914}" type="slidenum">
              <a:t>26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main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 portion of reality that forms the subject-matter of a single science or technology or mode of study or administrative practice ...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oteom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1C4DB-8B04-47E7-BDD7-04CD3D57EBE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resentation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n image, idea, map, picture, name or description ... of some entity or entit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A070-6DE8-49D3-93AE-67DF077B5FD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ies are representational artifact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2514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ffff"/>
                </a:solidFill>
                <a:latin typeface="Arial"/>
              </a:rPr>
              <a:t>comparable to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cience tex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1401-50F9-4955-BA9C-8A6CA379455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 Ontological Squ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057400"/>
          <a:ext cx="8458200" cy="3657600"/>
        </p:xfrm>
        <a:graphic>
          <a:graphicData uri="http://schemas.openxmlformats.org/drawingml/2006/table">
            <a:tbl>
              <a:tblPr/>
              <a:tblGrid>
                <a:gridCol w="2819520"/>
                <a:gridCol w="2819520"/>
                <a:gridCol w="28191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ologies in support of sci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tive ont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013A-EFD2-43C8-BDE0-84F33B74360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resentational units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, icons, alphanumeric identifiers ... which refer, or are intended to refer, to entit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which are minimal (ato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A3C8-8BA4-4466-B472-0F558EBE5E7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osite representation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resent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1) built out of representational uni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2) form a structure that mirrors, or is intended to mirror, the entities in some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1E513-C9E9-45EF-A5DA-43BA48CA0BC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458200" cy="792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alogue represent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419720" y="1066680"/>
            <a:ext cx="4849560" cy="57913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33526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 representational units, no ‘atoms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2574-0253-465A-B544-60C6CC3A4E6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62120" y="496800"/>
            <a:ext cx="7635600" cy="58644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rcRect l="0" t="2707" r="0" b="3758"/>
          <a:stretch/>
        </p:blipFill>
        <p:spPr>
          <a:xfrm>
            <a:off x="762120" y="723960"/>
            <a:ext cx="7772400" cy="56005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50680" y="944280"/>
            <a:ext cx="79880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85240" y="4932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F5EC2-9F76-4516-8D92-70E548473905}" type="slidenum">
              <a:t>33</a:t>
            </a:fld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ies are 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 rot="1785000">
            <a:off x="1090080" y="2189160"/>
            <a:ext cx="3405240" cy="1181160"/>
          </a:xfrm>
          <a:custGeom>
            <a:avLst/>
            <a:gdLst>
              <a:gd name="textAreaLeft" fmla="*/ 532080 w 3405240"/>
              <a:gd name="textAreaRight" fmla="*/ 2979720 w 3405240"/>
              <a:gd name="textAreaTop" fmla="*/ 295200 h 1181160"/>
              <a:gd name="textAreaBottom" fmla="*/ 885960 h 118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A794-61AC-469F-9758-3B26C0C67D7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he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 rot="5400000">
            <a:off x="1090800" y="2659680"/>
            <a:ext cx="3405240" cy="1181160"/>
          </a:xfrm>
          <a:custGeom>
            <a:avLst/>
            <a:gdLst>
              <a:gd name="textAreaLeft" fmla="*/ 532080 w 3405240"/>
              <a:gd name="textAreaRight" fmla="*/ 2979720 w 3405240"/>
              <a:gd name="textAreaTop" fmla="*/ 295200 h 1181160"/>
              <a:gd name="textAreaBottom" fmla="*/ 885960 h 118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D72B5-F547-4A38-826E-3F4C1102297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ontologies repres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 rot="5400000">
            <a:off x="4335840" y="1836000"/>
            <a:ext cx="1957320" cy="1181160"/>
          </a:xfrm>
          <a:custGeom>
            <a:avLst/>
            <a:gdLst>
              <a:gd name="textAreaLeft" fmla="*/ 305640 w 1957320"/>
              <a:gd name="textAreaRight" fmla="*/ 1712880 w 1957320"/>
              <a:gd name="textAreaTop" fmla="*/ 295200 h 1181160"/>
              <a:gd name="textAreaBottom" fmla="*/ 885960 h 118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480E-491A-4BDC-820B-248615C8F9E8}" type="slidenum">
              <a:t>36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tologies d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epresent concepts in people’s hea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397160" y="1676520"/>
            <a:ext cx="4927320" cy="2361960"/>
          </a:xfrm>
          <a:custGeom>
            <a:avLst/>
            <a:gdLst/>
            <a:ahLst/>
            <a:rect l="l" t="t" r="r" b="b"/>
            <a:pathLst>
              <a:path w="4120" h="1496">
                <a:moveTo>
                  <a:pt x="320" y="1208"/>
                </a:moveTo>
                <a:cubicBezTo>
                  <a:pt x="2164" y="1352"/>
                  <a:pt x="4008" y="1496"/>
                  <a:pt x="4064" y="1304"/>
                </a:cubicBezTo>
                <a:cubicBezTo>
                  <a:pt x="4120" y="1112"/>
                  <a:pt x="1312" y="112"/>
                  <a:pt x="656" y="56"/>
                </a:cubicBezTo>
                <a:cubicBezTo>
                  <a:pt x="0" y="0"/>
                  <a:pt x="64" y="484"/>
                  <a:pt x="128" y="968"/>
                </a:cubicBezTo>
              </a:path>
            </a:pathLst>
          </a:custGeom>
          <a:noFill/>
          <a:ln w="18720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F60F5-536E-48D4-BA31-4EC05F79934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y represent universals in rea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1828800" y="3733920"/>
            <a:ext cx="4648320" cy="6858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F5267-F4AC-4E38-B1BF-D3002B21750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g” is not the name of a concep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s do not stand i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_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ednes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s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ations to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867AB-AB6B-4360-8FCB-752CFE82EE8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91440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wo types of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ural-science ontolog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pture terminology-level knowledge used by best current sc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ministrative ontolog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e.g. billing ontologies, bloodbank ontologies, lab workflow ontolog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3DFEC-6933-4E17-AF82-D859986B7B0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685800" y="4952880"/>
          <a:ext cx="8229600" cy="1911600"/>
        </p:xfrm>
        <a:graphic>
          <a:graphicData uri="http://schemas.openxmlformats.org/drawingml/2006/table">
            <a:tbl>
              <a:tblPr/>
              <a:tblGrid>
                <a:gridCol w="609480"/>
                <a:gridCol w="1905120"/>
                <a:gridCol w="4119480"/>
                <a:gridCol w="981000"/>
                <a:gridCol w="614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287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3300 Dust Collector F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3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lmer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2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Drive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9" name=""/>
          <p:cNvSpPr/>
          <p:nvPr/>
        </p:nvSpPr>
        <p:spPr>
          <a:xfrm>
            <a:off x="6172200" y="3049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71500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50D08-7462-4C1C-9AA5-C0175A1DDCEF}" type="slidenum">
              <a:t>40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ventory vs. Catalog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wo kinds of composite representational artifac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23520" y="31240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bases represen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tologies represen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7E94F-4181-4AAE-9D1A-EC5831BDE9C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we know which general terms designate univers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oughly: terms used by scientists to designate entities about which we have a plurality of different kinds of testable pro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cell, electron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44BBD-1A89-4EE6-B5F3-1F5071317F3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: fiat demar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e over 30 years of age with family history of diabet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normal curvature of sp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nt in trial #20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5D52-3C50-474D-ACF5-7F417864677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: ro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DA-approved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F2A0-2DFF-4B99-BD27-2A085092E12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ministrative ontologies often need to go beyond univers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520" y="25905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 on stairs or ladders in water transport injuring occupant of small boat, unpowered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lway accident involving collision with rolling stock and injuring pedal cyclist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traffic accident involving motor-driven snow vehicle injuring pedestrian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7116-0308-41F0-A4BC-29A9EF89D64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s vs. cla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297180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8080" y="3962520"/>
            <a:ext cx="784872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a,b,c,...}                           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43000" y="320040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219320" y="3429000"/>
            <a:ext cx="0" cy="76212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FD44-99E0-4541-8CC8-23C8AE0DC0C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ass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maximal collection of particulars determined by a general ter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‘cell’. ‘electron’), (‘ ‘restaurant in Palo Alto’, ‘Italian’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las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the collection of all particular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which ‘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’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r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E3D19-2FF4-4AF2-BC14-6A142B06404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general term can be used to refer both to universals and to collections of particulars. Consid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V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infectious retro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HIV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spreading very rapidly through As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3D1F-F957-4E43-91A9-8623ECE7348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s vs. cla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297180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38080" y="3962520"/>
            <a:ext cx="78487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c,d,e,...}                       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600200" y="3189240"/>
            <a:ext cx="152280" cy="152280"/>
          </a:xfrm>
          <a:prstGeom prst="octagon">
            <a:avLst>
              <a:gd name="adj" fmla="val 292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673280" y="3429000"/>
            <a:ext cx="0" cy="762120"/>
          </a:xfrm>
          <a:prstGeom prst="line">
            <a:avLst/>
          </a:prstGeom>
          <a:ln w="856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DB96-43E7-4D0D-8328-34CCD85751F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ientific ontologies have special feat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term in a scientific ontology must be such that the developers of the ontology believe it to refer to some entity on the basis of the best current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DC52-C35A-4BE3-9F9E-ED5E335875C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tension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tension of a universa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the class: instance of the universa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it is the class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’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n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he class of all entities to which the term ‘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appl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E4B3-63C5-489D-96E7-4D2183EA512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s vs. cla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8080" y="297180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3962520"/>
            <a:ext cx="78487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8006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C29E-77E1-4861-8B5E-0673B961B68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s vs. clas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297180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38080" y="3962520"/>
            <a:ext cx="78487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s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8006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160A-E1C6-41F7-A622-93E987C8D90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ined class =de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ass defined by a general term which does not designate a univers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lass of all diabetic patients in Leipzig on 4 June 195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8E7A-638E-472D-A67E-662D92D32E31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WL is a good representation of defined cla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520" y="2495520"/>
            <a:ext cx="84582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ibling of Finnish sp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ember of Abba aged &gt; 50 ye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1FBA9-B8BC-4CED-A972-42749579D323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rminology =def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presentational artifact whose representational units are natural language terms (with IDs, synonyms, comments, etc.) which are intended to designate universals together with defined classe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C185-A4C6-4982-B5AB-81A5DB90A981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s, classes, concep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981080"/>
            <a:ext cx="39625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048120"/>
            <a:ext cx="71629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8620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4343400"/>
            <a:ext cx="9144000" cy="838080"/>
          </a:xfrm>
          <a:prstGeom prst="rect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30481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162920" y="4343400"/>
            <a:ext cx="1981080" cy="838080"/>
            <a:chOff x="7162920" y="4343400"/>
            <a:chExt cx="1981080" cy="838080"/>
          </a:xfrm>
        </p:grpSpPr>
        <p:sp>
          <p:nvSpPr>
            <p:cNvPr id="353" name=""/>
            <p:cNvSpPr/>
            <p:nvPr/>
          </p:nvSpPr>
          <p:spPr>
            <a:xfrm>
              <a:off x="7162920" y="4343400"/>
              <a:ext cx="0" cy="8380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62920" y="4343400"/>
              <a:ext cx="1981080" cy="838080"/>
            </a:xfrm>
            <a:prstGeom prst="rect">
              <a:avLst/>
            </a:prstGeom>
            <a:solidFill>
              <a:srgbClr val="99ccff">
                <a:alpha val="41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BAA85-24CB-4877-96C8-786EC60635A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iversals &lt; defined classes &lt; ‘concepts’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s’ which do not correspond to defined clas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gical or other procedure not carried out because of patient's decision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ent nippl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0A63-8F5D-4823-B79B-834344EF41E0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cientific) Ontology =def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520" y="1743120"/>
            <a:ext cx="8458200" cy="41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 representational artifact whose representational units (which may be drawn from a natural or from some formalized languag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are intended to re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universals in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those relations between these universals which obtain universally (= for all instanc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ung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is_a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natomical 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obe of lung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part_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u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209A-3815-49ED-B1B9-A0C2A11B65EA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t 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o Build an On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8DCC2-9896-46D6-A9FD-AE007970A99E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scientific ont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usability is cruc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tibility with neighboring scientific ontologies is crucial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 should not be too easy to add new terms to an on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want to introduce these features in clinical medicine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2DBB-B592-48A8-AAF1-93AEEE44EC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o build an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with scientists to create an initial top-level classif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~50 most commonly used terms corresponding to universals in re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range these terms into an informal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erarchy according to this Universality princi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 is_a B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very instanc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an instanc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ll in missing terms to give a complete hierarc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leave it to domain scientists to populate the lower levels of the hierarch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54651-43AD-4A45-A5A4-6316B313C89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 of Low Hanging Frui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lude even absolutely trivial assertions (assertions you know to be universally tru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neumococcal virus is_a 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uters need to be led by the h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81724-E4BD-4E50-83A8-ADB67686B419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S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SH Descriptor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x Medicus Descripto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Anthropology, Education, Sociology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Social Phenomena (MeSH Category)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Social Scienc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System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Soci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Socialism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litical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Socialism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thropology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E63D-66B3-44DE-94AC-50791BD7F863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singular nou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 in ontologies represent univers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EA469-3911-4A63-AD17-C62CC33EAFFE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al: Each term in an ontology represents exactly one univers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38200" y="2514600"/>
            <a:ext cx="6556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re are universals also of collectiviti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opulation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mplex of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6E1DC-8B8C-49B3-B3A8-E01E7002DEB9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use-mention conf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onceptual Entities =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 organizational header for concepts representing mostly abstract entiti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ming is healthy and has eight let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91C24-1FFA-4C67-B946-D1D89BA638A6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confusing between words and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confusing between concepts in our minds and entities in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ommendation: avoid the word ‘concept’ entir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9C764-CA5F-4341-8AD3-BD45D64CB4BF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alban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’ = def. ‘a  written or spoken designation of a concept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A8A05-55F4-479D-9D33-BD0C696A59B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parin therapy’ is an instance of ‘written or spoken designation of a concept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the problems he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misuse of quotation m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confusion of instances and univers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confusion of concept and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alban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11E6-31D2-4852-B841-D883E3F2F59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nt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= def. plant cell, consisting of protoplast and cell wall;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87E4-ADAE-4F35-B97E-9EAB0FEE188F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scientific ont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ssue of how the ontology will be used is not a factor relevant for determining which entities in the ontology will be selected as universals (types, kinds, ... class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is decision is made on the basis of each specific use, this thwarts reus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6151" t="24557" r="22111" b="62791"/>
          <a:stretch/>
        </p:blipFill>
        <p:spPr>
          <a:xfrm>
            <a:off x="2362320" y="0"/>
            <a:ext cx="4271760" cy="9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A8D7-3758-44EB-B362-F3261C23CCF0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the sake of interoperability with other ontologies, do not give special meanings to terms with established general mean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Don’t use ‘cell’ when you mean ‘plant cell’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F9EC4-3631-466F-9172-C11BB60CF7CE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NP: International Classification of Nursing Proced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6840" y="18748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water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=def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ype of Nursing Phenomenon of Physical Environment with the specific characteristics: clear liquid compound of hydrogen and oxygen that is essential for most plant and animal life influencing life and development of human bei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656A7-727A-4D00-AAE4-9CA65D16E198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ly definitions wherever possib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both human-understandable natural language definitions, and equivalent formal defini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E8C8A-1342-409D-BFA6-782FDD37D15B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term should have at most one definition*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which may have both natural-language and formal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E3F6A-E58E-418D-8718-858092AB2219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71568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roblem of Circula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son = def. A person with an identity doc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= def. plant cell, consisting of protoplast and cell wall;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02FF-2365-49DE-BA93-196B576E264A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circular 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he term defined should not appear in its own defini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0A17-98BD-4CEE-AB1E-D02552438C63}" type="slidenum">
              <a:t>75</a:t>
            </a:fld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L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opping a medication’ = def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nge of state in the record of a Substance Administration Act from Active to Aborte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9D2E-0137-41AA-BF5D-24D4DF18BF3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definition should use terms which are easier to understand than the term def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HL7 creates a topsy turvy world, in which simple things are made difficul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8BCB-1E57-4CE9-869A-161DD570F1D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ristotelian 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 is a B which C’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3FD58-C5C6-4BEF-BBBE-4D60C120368F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inci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seek to define every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FC4B-435C-4588-B45E-75849BFE0D40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ministrative ontolog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ities may be brought into existence by the ontology itself. (Convention 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ly task-dependent – reusability and compatibility not (always) import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ers may invent dummy entities (‘surgical procedure not performed because of patient request’) e.g. for forensic reasons (reality and knowledge are confu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62B20-4F7F-41F6-B4B6-7EA2B273F52F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 every ont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terms and some relations are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primitiv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they cannot be defined (on pain of infinite regres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primitive rel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nce_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EE81-B569-4C65-86A5-61C15FEEA3CE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 good, general constraint on a theory of meaning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80520" y="2715840"/>
            <a:ext cx="845820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each linguistic expression ‘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’ means 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now’ means: sno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neumonia’ means: pneumon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D333F-B9ED-43FC-8001-16C7AA537A09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L7 Reference Information Mod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’ does not mean: medic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her it mea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record of medication in an information system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ping a medication’ does not mean: stopping a medic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ther it mea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nge of state in the record of a Substance Administration Act from Active to Abort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C8B2-FB31-4666-AC36-A83C97A1E2C5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les for formatting te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abbreviations even when it is clear in context what they mean (‘breast’ for ‘breast tumor’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acrony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mass terms (‘tissue’, ‘brain mapping’, ‘clinical research’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at each term ‘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 in an ontology is shorthand for a term of the form ‘the universal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80ADD-971B-4A7E-A639-3228A38DDC3D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8458200" cy="83808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ocity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 should have the same meanings on every occasion of u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They should refer to the same universa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ic ontological relations such 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s_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art_of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hould be used in the same way by all ont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4F7B-0261-4172-8A4E-BCBC64A847B5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tologies should include only those relational assertions which hold univers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neumococcal virus causes pneumo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1F9F-A3E6-4FF6-9496-C80C1637EF98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ten, order will mat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can as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dult transformation_of chi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hild transforms_into ad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D8029-5826-4192-9602-DB5ABB111CC8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iral pneumonia caused by 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irus causes pneumo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neumococcal virus causes pneumo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56D6-4563-44F4-934A-C5B191B55D6D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ivers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otocol-design earlier_than results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n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sults analysis later_than protocol-desig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6DD2-5D48-4FDB-80B4-5C2061061048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80520" y="2277720"/>
            <a:ext cx="84582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ments of universals are not themselves universa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 such a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n-mamma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non-membra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other metalworker in New Zeala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esignate universals in re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33CFA-D26C-4678-A77E-C6FE7BE01190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ypothe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of the shortfalls of existing administrative ontologies can be overcome by adopting the scientific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oo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or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, in the long run, als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ractically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f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ve ontologi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~ data model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9FEB-6BD0-4968-B28D-026A79DD9AA2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tology of universals 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logic of te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no conjunctive and disjunctive universals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atomic structure, system, or sub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usculoskeletal and connective tissue disor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heumatism, excluding the 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15909-70FA-4908-AA18-58E68FBD8DF5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ctiv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universals exist in reality is not a function of our knowled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s such as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class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nlocaliz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rthropathies not otherwise 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designate universals in real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F90D-BC9D-405F-ABB3-775ACA7764C6}" type="slidenum">
              <a:t>91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ep Epistemology Separate from Ont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852560"/>
            <a:ext cx="86868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nt to say th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do not know wher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’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e loc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invent a new class of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A’s with unknown 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 well-constructed ontology should grow linearly; it should not need to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let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es or relations because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crease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knowled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D345-D1A6-4286-8C5A-B468A3D32AC1}" type="slidenum">
              <a:t>92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ant to s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 surmise that this is a case of pneumo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invent a new class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urmised pneumon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Keep Sentences Separate from Te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9BD08-D2C2-41EB-AB48-F7CE7F5C03D3}" type="slidenum">
              <a:t>93</a:t>
            </a:fld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ngle Inherit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 kind in a classificatory hierarchy should have more than one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_a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rent on the immediate higher lev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AC9D1-C645-4D53-8F7B-B8695587A2AF}" type="slidenum">
              <a:t>94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ple Inheri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105520" y="3635280"/>
            <a:ext cx="22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2133720"/>
            <a:ext cx="3048120" cy="3657600"/>
          </a:xfrm>
          <a:prstGeom prst="diamond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11080" y="3637080"/>
            <a:ext cx="330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lu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392640" y="5762520"/>
            <a:ext cx="24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lue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896920" y="46483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_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92440" y="46483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_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3857760" y="0"/>
            <a:ext cx="1600200" cy="1295280"/>
            <a:chOff x="3857760" y="0"/>
            <a:chExt cx="1600200" cy="1295280"/>
          </a:xfrm>
        </p:grpSpPr>
        <p:sp>
          <p:nvSpPr>
            <p:cNvPr id="441" name=""/>
            <p:cNvSpPr/>
            <p:nvPr/>
          </p:nvSpPr>
          <p:spPr>
            <a:xfrm>
              <a:off x="3857760" y="0"/>
              <a:ext cx="1600200" cy="129528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086360" y="123120"/>
              <a:ext cx="1143000" cy="986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9239-EE22-4FDC-8AE2-C06F6CD74E96}" type="slidenum">
              <a:t>95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ple Inheri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15960" y="2499840"/>
            <a:ext cx="8223120" cy="39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 source of err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s laz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s as obstacle to integration with neighboring ont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mpers use of Aristotelian methodology for defining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mpers use of statistical search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3857760" y="0"/>
            <a:ext cx="1600200" cy="1600200"/>
            <a:chOff x="3857760" y="0"/>
            <a:chExt cx="1600200" cy="1600200"/>
          </a:xfrm>
        </p:grpSpPr>
        <p:sp>
          <p:nvSpPr>
            <p:cNvPr id="446" name=""/>
            <p:cNvSpPr/>
            <p:nvPr/>
          </p:nvSpPr>
          <p:spPr>
            <a:xfrm>
              <a:off x="3857760" y="0"/>
              <a:ext cx="1600200" cy="160020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086360" y="152280"/>
              <a:ext cx="1143000" cy="1219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EF11B-7C00-4AD3-B415-84892632AF93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ltiple Inherit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105520" y="3635280"/>
            <a:ext cx="22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2133720"/>
            <a:ext cx="3048120" cy="3657600"/>
          </a:xfrm>
          <a:prstGeom prst="diamond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73280" y="3581280"/>
            <a:ext cx="330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lue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467880" y="5791320"/>
            <a:ext cx="24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lue c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905200" y="4648320"/>
            <a:ext cx="1056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_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400720" y="4648320"/>
            <a:ext cx="10569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s_a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3857760" y="0"/>
            <a:ext cx="1600200" cy="1447920"/>
            <a:chOff x="3857760" y="0"/>
            <a:chExt cx="1600200" cy="1447920"/>
          </a:xfrm>
        </p:grpSpPr>
        <p:sp>
          <p:nvSpPr>
            <p:cNvPr id="457" name=""/>
            <p:cNvSpPr/>
            <p:nvPr/>
          </p:nvSpPr>
          <p:spPr>
            <a:xfrm>
              <a:off x="3857760" y="0"/>
              <a:ext cx="1600200" cy="1447920"/>
            </a:xfrm>
            <a:prstGeom prst="ellipse">
              <a:avLst/>
            </a:prstGeom>
            <a:noFill/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86360" y="137520"/>
              <a:ext cx="1143000" cy="1103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5A7C-2AAF-4253-813D-CE447F74FCE7}" type="slidenum">
              <a:t>97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is_a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Overload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ccess of ontology alignment demands that ontological relations (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s_a, part_of, ..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have the same meanings in the different ontologies to be align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457CD-DE8F-47AD-AB5E-4727927A1D64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gradFill rotWithShape="0">
            <a:gsLst>
              <a:gs pos="0">
                <a:srgbClr val="000000">
                  <a:alpha val="68235"/>
                </a:srgbClr>
              </a:gs>
              <a:gs pos="50000">
                <a:srgbClr val="333399">
                  <a:alpha val="67058"/>
                </a:srgbClr>
              </a:gs>
              <a:gs pos="100000">
                <a:srgbClr val="000000">
                  <a:alpha val="68235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osition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eanings of compound terms should be determin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by the meanings of component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ogether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the rules governing synta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94EB6-FD16-4344-B02F-B36E00556D47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1:45:10Z</dcterms:created>
  <dc:creator>phismith</dc:creator>
  <dc:description/>
  <dc:language>en-US</dc:language>
  <cp:lastModifiedBy>Barry Smith</cp:lastModifiedBy>
  <dcterms:modified xsi:type="dcterms:W3CDTF">2006-10-25T21:39:39Z</dcterms:modified>
  <cp:revision>91</cp:revision>
  <dc:subject/>
  <dc:title>NIH VISION THING</dc:title>
</cp:coreProperties>
</file>